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41E-3089-45F3-B695-967724A3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FF8-3B6E-49DE-9CFE-BDFEAC6B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2D4-D18E-4E50-ADF2-A202EF83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0BE-4CB3-4EAD-BFF9-97FC7D71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8CC-4CF7-41AC-9DA2-26BBEF6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3D4-8EB0-499B-B800-CDEF1AC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245-96E9-4DC2-AB64-B0220CE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EB1-D39B-487B-ABA7-4AA2614B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B41-34A1-4E89-944D-3C1A3CD1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19A-277D-452D-BE36-185AA33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010-93EF-444F-B4D4-9B55706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291-1B63-423B-9A1D-D2717440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F43-DE17-4EE2-A2B2-7EA189755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Interop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CC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CC/LTSC/S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Feb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110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876920" y="3505320"/>
            <a:ext cx="1541520" cy="799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05520" y="2133720"/>
            <a:ext cx="1108080" cy="1371600"/>
            <a:chOff x="5105520" y="2133720"/>
            <a:chExt cx="1108080" cy="1371600"/>
          </a:xfrm>
        </p:grpSpPr>
        <p:sp>
          <p:nvSpPr>
            <p:cNvPr id="114" name=""/>
            <p:cNvSpPr/>
            <p:nvPr/>
          </p:nvSpPr>
          <p:spPr>
            <a:xfrm>
              <a:off x="51055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lti-me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428640" y="1828800"/>
            <a:ext cx="1676880" cy="1295280"/>
            <a:chOff x="3428640" y="1828800"/>
            <a:chExt cx="1676880" cy="1295280"/>
          </a:xfrm>
        </p:grpSpPr>
        <p:sp>
          <p:nvSpPr>
            <p:cNvPr id="117" name=""/>
            <p:cNvSpPr/>
            <p:nvPr/>
          </p:nvSpPr>
          <p:spPr>
            <a:xfrm>
              <a:off x="3733920" y="182880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42864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952880" y="4266720"/>
            <a:ext cx="1287720" cy="2250000"/>
            <a:chOff x="4952880" y="4266720"/>
            <a:chExt cx="1287720" cy="2250000"/>
          </a:xfrm>
        </p:grpSpPr>
        <p:sp>
          <p:nvSpPr>
            <p:cNvPr id="121" name=""/>
            <p:cNvSpPr/>
            <p:nvPr/>
          </p:nvSpPr>
          <p:spPr>
            <a:xfrm>
              <a:off x="4952880" y="4724280"/>
              <a:ext cx="1287720" cy="17924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638680" y="426672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418440" y="1752480"/>
            <a:ext cx="2222280" cy="2136600"/>
            <a:chOff x="6418440" y="1752480"/>
            <a:chExt cx="2222280" cy="2136600"/>
          </a:xfrm>
        </p:grpSpPr>
        <p:sp>
          <p:nvSpPr>
            <p:cNvPr id="124" name=""/>
            <p:cNvSpPr/>
            <p:nvPr/>
          </p:nvSpPr>
          <p:spPr>
            <a:xfrm>
              <a:off x="6781680" y="1752480"/>
              <a:ext cx="1859040" cy="1257480"/>
            </a:xfrm>
            <a:prstGeom prst="hexagon">
              <a:avLst>
                <a:gd name="adj" fmla="val 36960"/>
                <a:gd name="vf" fmla="val 11547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18440" y="2971440"/>
              <a:ext cx="1277640" cy="9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122560" y="5362560"/>
            <a:ext cx="15746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95480" y="3889440"/>
            <a:ext cx="1946520" cy="1496880"/>
            <a:chOff x="2895480" y="3889440"/>
            <a:chExt cx="1946520" cy="1496880"/>
          </a:xfrm>
        </p:grpSpPr>
        <p:sp>
          <p:nvSpPr>
            <p:cNvPr id="128" name=""/>
            <p:cNvSpPr/>
            <p:nvPr/>
          </p:nvSpPr>
          <p:spPr>
            <a:xfrm>
              <a:off x="3841920" y="3889440"/>
              <a:ext cx="100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457200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3520" y="5410080"/>
            <a:ext cx="1600200" cy="812880"/>
            <a:chOff x="533520" y="5410080"/>
            <a:chExt cx="1600200" cy="812880"/>
          </a:xfrm>
        </p:grpSpPr>
        <p:sp>
          <p:nvSpPr>
            <p:cNvPr id="131" name=""/>
            <p:cNvSpPr/>
            <p:nvPr/>
          </p:nvSpPr>
          <p:spPr>
            <a:xfrm>
              <a:off x="533520" y="5410080"/>
              <a:ext cx="1108080" cy="812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0200" y="5791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33520" y="3276720"/>
            <a:ext cx="1066680" cy="2133360"/>
            <a:chOff x="533520" y="3276720"/>
            <a:chExt cx="1066680" cy="2133360"/>
          </a:xfrm>
        </p:grpSpPr>
        <p:sp>
          <p:nvSpPr>
            <p:cNvPr id="134" name=""/>
            <p:cNvSpPr/>
            <p:nvPr/>
          </p:nvSpPr>
          <p:spPr>
            <a:xfrm>
              <a:off x="533520" y="327672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6680" y="4572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733920" y="571500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47920" y="28954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71800" y="3962520"/>
            <a:ext cx="1828800" cy="1371600"/>
            <a:chOff x="2971800" y="3962520"/>
            <a:chExt cx="1828800" cy="1371600"/>
          </a:xfrm>
        </p:grpSpPr>
        <p:sp>
          <p:nvSpPr>
            <p:cNvPr id="139" name=""/>
            <p:cNvSpPr/>
            <p:nvPr/>
          </p:nvSpPr>
          <p:spPr>
            <a:xfrm>
              <a:off x="2971800" y="4572000"/>
              <a:ext cx="762120" cy="7621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39625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895480" y="3886200"/>
            <a:ext cx="1946520" cy="1496880"/>
            <a:chOff x="2895480" y="3886200"/>
            <a:chExt cx="1946520" cy="1496880"/>
          </a:xfrm>
        </p:grpSpPr>
        <p:sp>
          <p:nvSpPr>
            <p:cNvPr id="142" name=""/>
            <p:cNvSpPr/>
            <p:nvPr/>
          </p:nvSpPr>
          <p:spPr>
            <a:xfrm>
              <a:off x="3841920" y="3886200"/>
              <a:ext cx="100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4568760"/>
              <a:ext cx="0" cy="814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C86-2264-4BD0-B281-69747514FA2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Simulation Have to do to Work in a Train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. is mandatory all others are 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Instructional/Author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state or condition o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/decel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ailure in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ts behavior in ways to support training needs -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EE6-5B1C-438D-92BD-CF5A4F3A22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/Should a Specification for Interoperability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666880"/>
            <a:ext cx="2438280" cy="1981440"/>
          </a:xfrm>
          <a:prstGeom prst="leftArrow">
            <a:avLst>
              <a:gd name="adj1" fmla="val 50000"/>
              <a:gd name="adj2" fmla="val 3076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634-94B5-490C-9114-BC3003F4DF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Communi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Activities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student/user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Activities NOT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ternal simulation states of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 positio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371600"/>
            <a:ext cx="190476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1363680" cy="790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800600" y="152388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167652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5D8-BF3D-4C6E-936B-7242F0AC38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T controls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T provides screen real-estate f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has component that places image on real-estat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ponds to mouse/touch inputs on its own real-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T responds to inputs outside simulation real-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3E5-8819-41B2-807D-F75F060B7F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splay Managemen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of C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allocated for simulation -- siz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e/displa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/no b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 title/no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ocat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o 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cation of simulation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specific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1FD-4A4D-407A-AE51-9E07173DFB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i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state/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/decelerat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525780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2000" y="5486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6B0-318D-4FF0-8882-6A57B1F949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imulat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: send each student action to CBT &amp; wait for go-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: send each student action, but do not wait to si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: respond immediately to student input, but wait for OK before allowing anoth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play:  no report to CBT until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: respond to CBT not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144792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363680" cy="79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1480" y="160020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752480"/>
            <a:ext cx="1295640" cy="533520"/>
          </a:xfrm>
          <a:prstGeom prst="leftRightArrow">
            <a:avLst>
              <a:gd name="adj1" fmla="val 50000"/>
              <a:gd name="adj2" fmla="val 4834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9CE-BB79-4F70-977D-CE0A10ECD1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A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his action (move switch, turn knob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tatus? (temperature, pressure, etc – something inside the sim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his, and let me know if the threshold is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B58-F8A7-4CA1-B60C-338F7FC1C4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ally want to be able to use all the instructional strategies we can thin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iagnose what went wrong i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end and receive commands without standardizing all the names in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simulation maker name the controls and functions.  Then tell the user what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let accompanying simula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teractive query with the simula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DCD-CBCB-4189-9552-C29B87D510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/CB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C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/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D8D-DCFC-472C-A310-82E7BE32AB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qu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ormat for all the names (not standard names) and functions in a simulation – standardized data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commands fo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FD9-FFD7-4956-B5C1-6B6649F95D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s and Data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LastError(“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ErrorString(“error numb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(command,location,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(“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F0B-818F-4D4E-BF5A-9D48710BF7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66880" y="3502080"/>
            <a:ext cx="3581640" cy="3355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Execute Command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G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890-23BC-4F50-A853-A3CC0513D4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72200" y="4905360"/>
            <a:ext cx="1979640" cy="1952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Documents on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D10 – Simulation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s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effort at creating a command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G10 v7 – Content and Simulatio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B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23C-A0AA-4BB5-A214-34DE5A562F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(and Beginn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123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= Courseware = C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signed to suppo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(hardware and/or software) that is designed to change over time and react to inputs so that its user perceives that it is acting like the system being sim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AF5-C671-4622-957B-2F97D7EBBB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effective training strategies exist for using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uld be cost effective to be able to implement the strategies with courseware instead of instru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simulations have embedded support for building coursewa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imulations with support, each have a unique instructional design interface, and most do not enable all the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enable simulations to work with our favorite courseware building to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40B-2FC2-460F-8D55-9DE9876D45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a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, content &amp; content-building tools working seamlessly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/Content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imulation (designed to the spec) work with any content authoring/delivery tool (that supports the sp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multiple instruc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F9D-4936-4BF4-B44C-6133E43B08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29200" y="1828800"/>
            <a:ext cx="3886200" cy="37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199-053F-4940-90C6-57AD672841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57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1828800"/>
            <a:ext cx="4343400" cy="2743200"/>
            <a:chOff x="533520" y="1828800"/>
            <a:chExt cx="4343400" cy="2743200"/>
          </a:xfrm>
        </p:grpSpPr>
        <p:sp>
          <p:nvSpPr>
            <p:cNvPr id="60" name=""/>
            <p:cNvSpPr/>
            <p:nvPr/>
          </p:nvSpPr>
          <p:spPr>
            <a:xfrm>
              <a:off x="3809880" y="1828800"/>
              <a:ext cx="106704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29000" y="2514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327672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447920" y="2895480"/>
              <a:ext cx="914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122560" y="4572000"/>
            <a:ext cx="1574640" cy="1628640"/>
            <a:chOff x="2122560" y="4572000"/>
            <a:chExt cx="1574640" cy="1628640"/>
          </a:xfrm>
        </p:grpSpPr>
        <p:sp>
          <p:nvSpPr>
            <p:cNvPr id="65" name=""/>
            <p:cNvSpPr/>
            <p:nvPr/>
          </p:nvSpPr>
          <p:spPr>
            <a:xfrm>
              <a:off x="2122560" y="5362560"/>
              <a:ext cx="157464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457200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841920" y="3505320"/>
            <a:ext cx="2576520" cy="799920"/>
            <a:chOff x="3841920" y="3505320"/>
            <a:chExt cx="2576520" cy="799920"/>
          </a:xfrm>
        </p:grpSpPr>
        <p:sp>
          <p:nvSpPr>
            <p:cNvPr id="68" name=""/>
            <p:cNvSpPr/>
            <p:nvPr/>
          </p:nvSpPr>
          <p:spPr>
            <a:xfrm>
              <a:off x="4876920" y="3505320"/>
              <a:ext cx="1541520" cy="79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c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41920" y="3889440"/>
              <a:ext cx="100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086-3ED5-4564-A22A-81A1CDD9AE3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uthor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73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122560" y="4572000"/>
            <a:ext cx="1574640" cy="1628640"/>
            <a:chOff x="2122560" y="4572000"/>
            <a:chExt cx="1574640" cy="1628640"/>
          </a:xfrm>
        </p:grpSpPr>
        <p:sp>
          <p:nvSpPr>
            <p:cNvPr id="76" name=""/>
            <p:cNvSpPr/>
            <p:nvPr/>
          </p:nvSpPr>
          <p:spPr>
            <a:xfrm>
              <a:off x="2122560" y="5362560"/>
              <a:ext cx="157464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95480" y="457200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5410080"/>
            <a:ext cx="1600200" cy="812880"/>
            <a:chOff x="533520" y="5410080"/>
            <a:chExt cx="1600200" cy="812880"/>
          </a:xfrm>
        </p:grpSpPr>
        <p:sp>
          <p:nvSpPr>
            <p:cNvPr id="79" name=""/>
            <p:cNvSpPr/>
            <p:nvPr/>
          </p:nvSpPr>
          <p:spPr>
            <a:xfrm>
              <a:off x="533520" y="5410080"/>
              <a:ext cx="1108080" cy="812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5791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520" y="3276720"/>
            <a:ext cx="1066680" cy="2133360"/>
            <a:chOff x="533520" y="3276720"/>
            <a:chExt cx="1066680" cy="2133360"/>
          </a:xfrm>
        </p:grpSpPr>
        <p:sp>
          <p:nvSpPr>
            <p:cNvPr id="82" name=""/>
            <p:cNvSpPr/>
            <p:nvPr/>
          </p:nvSpPr>
          <p:spPr>
            <a:xfrm>
              <a:off x="533520" y="327672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6680" y="4572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733920" y="4724280"/>
            <a:ext cx="2506680" cy="1792440"/>
            <a:chOff x="3733920" y="4724280"/>
            <a:chExt cx="2506680" cy="1792440"/>
          </a:xfrm>
        </p:grpSpPr>
        <p:sp>
          <p:nvSpPr>
            <p:cNvPr id="85" name=""/>
            <p:cNvSpPr/>
            <p:nvPr/>
          </p:nvSpPr>
          <p:spPr>
            <a:xfrm>
              <a:off x="4952880" y="4724280"/>
              <a:ext cx="1287720" cy="17924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3920" y="5715000"/>
              <a:ext cx="12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8EE-49B5-410E-BD9F-D44F404A080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structional Control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90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41920" y="3505320"/>
            <a:ext cx="2576520" cy="799920"/>
            <a:chOff x="3841920" y="3505320"/>
            <a:chExt cx="2576520" cy="799920"/>
          </a:xfrm>
        </p:grpSpPr>
        <p:sp>
          <p:nvSpPr>
            <p:cNvPr id="93" name=""/>
            <p:cNvSpPr/>
            <p:nvPr/>
          </p:nvSpPr>
          <p:spPr>
            <a:xfrm>
              <a:off x="4876920" y="3505320"/>
              <a:ext cx="1541520" cy="79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c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1920" y="3889440"/>
              <a:ext cx="100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105520" y="2133720"/>
            <a:ext cx="1108080" cy="1371600"/>
            <a:chOff x="5105520" y="2133720"/>
            <a:chExt cx="1108080" cy="1371600"/>
          </a:xfrm>
        </p:grpSpPr>
        <p:sp>
          <p:nvSpPr>
            <p:cNvPr id="96" name=""/>
            <p:cNvSpPr/>
            <p:nvPr/>
          </p:nvSpPr>
          <p:spPr>
            <a:xfrm>
              <a:off x="51055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lti-me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3868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733920" y="1828800"/>
            <a:ext cx="1371600" cy="1295280"/>
            <a:chOff x="3733920" y="1828800"/>
            <a:chExt cx="1371600" cy="1295280"/>
          </a:xfrm>
        </p:grpSpPr>
        <p:sp>
          <p:nvSpPr>
            <p:cNvPr id="99" name=""/>
            <p:cNvSpPr/>
            <p:nvPr/>
          </p:nvSpPr>
          <p:spPr>
            <a:xfrm>
              <a:off x="3733920" y="182880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0060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952880" y="4266720"/>
            <a:ext cx="1287720" cy="2250000"/>
            <a:chOff x="4952880" y="4266720"/>
            <a:chExt cx="1287720" cy="2250000"/>
          </a:xfrm>
        </p:grpSpPr>
        <p:sp>
          <p:nvSpPr>
            <p:cNvPr id="102" name=""/>
            <p:cNvSpPr/>
            <p:nvPr/>
          </p:nvSpPr>
          <p:spPr>
            <a:xfrm>
              <a:off x="4952880" y="4724280"/>
              <a:ext cx="1287720" cy="17924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638680" y="426672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18440" y="1752480"/>
            <a:ext cx="2222280" cy="2136600"/>
            <a:chOff x="6418440" y="1752480"/>
            <a:chExt cx="2222280" cy="2136600"/>
          </a:xfrm>
        </p:grpSpPr>
        <p:sp>
          <p:nvSpPr>
            <p:cNvPr id="105" name=""/>
            <p:cNvSpPr/>
            <p:nvPr/>
          </p:nvSpPr>
          <p:spPr>
            <a:xfrm>
              <a:off x="6781680" y="1752480"/>
              <a:ext cx="1859040" cy="1257480"/>
            </a:xfrm>
            <a:prstGeom prst="hexagon">
              <a:avLst>
                <a:gd name="adj" fmla="val 36960"/>
                <a:gd name="vf" fmla="val 11547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418440" y="2971440"/>
              <a:ext cx="1277640" cy="9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C51-E18F-4B84-8623-2658B14B014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6:39:46Z</dcterms:created>
  <dc:creator>Jack Hyde</dc:creator>
  <dc:description/>
  <dc:language>en-US</dc:language>
  <cp:lastModifiedBy> </cp:lastModifiedBy>
  <dcterms:modified xsi:type="dcterms:W3CDTF">2006-02-02T22:56:06Z</dcterms:modified>
  <cp:revision>36</cp:revision>
  <dc:subject/>
  <dc:title>Simulation Interoperability</dc:title>
</cp:coreProperties>
</file>