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3575" cy="9299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12800" cy="929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3680" y="0"/>
            <a:ext cx="3039840" cy="46512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44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3" name="PlaceHolder 4"/>
          <p:cNvSpPr>
            <a:spLocks noGrp="1"/>
          </p:cNvSpPr>
          <p:nvPr>
            <p:ph type="body"/>
          </p:nvPr>
        </p:nvSpPr>
        <p:spPr>
          <a:xfrm>
            <a:off x="934920" y="4416480"/>
            <a:ext cx="5143680" cy="418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834400"/>
            <a:ext cx="3040200" cy="46512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3680" y="8834400"/>
            <a:ext cx="3039840" cy="46512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FFC525-1ED1-434E-8AEF-2B4FCED2F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973680" y="8834400"/>
            <a:ext cx="303984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58E09C-67A9-4892-A966-A4696E350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834400"/>
            <a:ext cx="30402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360" y="0"/>
            <a:ext cx="30402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973680" y="0"/>
            <a:ext cx="303984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81160" y="696960"/>
            <a:ext cx="4649760" cy="3487680"/>
          </a:xfrm>
          <a:prstGeom prst="rect">
            <a:avLst/>
          </a:prstGeom>
          <a:ln w="0">
            <a:noFill/>
          </a:ln>
        </p:spPr>
      </p:sp>
      <p:sp>
        <p:nvSpPr>
          <p:cNvPr id="143" name="PlaceHolder 2"/>
          <p:cNvSpPr>
            <a:spLocks noGrp="1"/>
          </p:cNvSpPr>
          <p:nvPr>
            <p:ph type="body"/>
          </p:nvPr>
        </p:nvSpPr>
        <p:spPr>
          <a:xfrm>
            <a:off x="701640" y="4417920"/>
            <a:ext cx="561024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answering the above questions, simulations will need to be classified and abstracted into a simulation typology with associated characteristics. These characteristics can then be compared with the SCORM for the best way to represent the simulation types. For example, it is conceivable, they could exist as individual SCOs and assets but utilizing the resources of SCORM 1.3.1 it may make more sense to represent them as sequencing and navigation patterns that are instantiated in the sequence and navigation section of the manifest. In this way, a simulation could interact with various SCOs as necessary to present or modify the simulation. This representation is the foundation of the analysis and will function as the baseline for analysis of the SC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73680" y="8834400"/>
            <a:ext cx="303984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AB65AF-B7AD-40EC-9D55-7E479A30F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834400"/>
            <a:ext cx="30402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30402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973680" y="0"/>
            <a:ext cx="303984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9760" cy="3487680"/>
          </a:xfrm>
          <a:prstGeom prst="rect">
            <a:avLst/>
          </a:prstGeom>
          <a:ln w="0">
            <a:noFill/>
          </a:ln>
        </p:spPr>
      </p:sp>
      <p:sp>
        <p:nvSpPr>
          <p:cNvPr id="149" name="PlaceHolder 2"/>
          <p:cNvSpPr>
            <a:spLocks noGrp="1"/>
          </p:cNvSpPr>
          <p:nvPr>
            <p:ph type="body"/>
          </p:nvPr>
        </p:nvSpPr>
        <p:spPr>
          <a:xfrm>
            <a:off x="701640" y="4417920"/>
            <a:ext cx="561024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components of the SCORM pertinent to this effort are the LOM for discovery and data storage within SCOs. This will be important whether a simulation object resides in the manifest of SCO level. Metadata will be needed to describe the simulation and store values necessary to interoperate and track learners within an LMS. These metadata elements and fields will model the derived characteristics of the simulation types. At either level of aggregation, SCOs will have to be typed and described as such in their metadata requiring the potential extension of the L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component is the sequence and navigation area within the manifest. It will be necessary to describe tree structures representing each simulation type and their associated SCO types here. These models can be abstracted and reused as necessary and will have associated SCO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run time environment (RTE) that provides the run-time data model and interoperability with the LMS is significant. Depending on how a simulation needs to interact with an LMS, this model will have to support all interactions required. This is essentially the AP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973680" y="8834400"/>
            <a:ext cx="303984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F1E01E-679B-4935-9604-DD4CF203D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834400"/>
            <a:ext cx="30402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30402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973680" y="0"/>
            <a:ext cx="303984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81160" y="696960"/>
            <a:ext cx="4649760" cy="3487680"/>
          </a:xfrm>
          <a:prstGeom prst="rect">
            <a:avLst/>
          </a:prstGeom>
          <a:ln w="0">
            <a:noFill/>
          </a:ln>
        </p:spPr>
      </p:sp>
      <p:sp>
        <p:nvSpPr>
          <p:cNvPr id="137" name="PlaceHolder 2"/>
          <p:cNvSpPr>
            <a:spLocks noGrp="1"/>
          </p:cNvSpPr>
          <p:nvPr>
            <p:ph type="body"/>
          </p:nvPr>
        </p:nvSpPr>
        <p:spPr>
          <a:xfrm>
            <a:off x="701640" y="4417920"/>
            <a:ext cx="5610240" cy="41846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presenting Simulations within SCOR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ining involves activities for the acquisition of knowledge and skills as well as their assessment. It is traditionally based upon a one-way transmission model of instructor (computer for online environments) to learner with the underlying assumption that the learner will gain knowledge and skills through this limited type of activity. However, learning to apply skills and knowledge requires much greater interaction; therefore “learning by doing” results in much more meaningful and effective learning. Unfortunately, effective, immersive and authentic training and learning environment development is expensive and sometimes logistically impossible.  Simulation technology provides a possible framework within which such immersive training might be conduc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sides enhancing the effectiveness of learning, simulations can provide ways to assess the learning. By performing the skills and accessing the knowledge in simulated activity, learners can be assessed on how well they can apply what they have learned. These assessments can occur, formatively shaping skills and behaviors, as a separate assessment activity, or summatively assessing what should have been learned at the end of a course. For problem-based competencies, simulations make an excellent assessment tool to certify whether someone can problem-solve or perform analysis activities. In addition the simulation environment also provides an excellent medium to perform after action review of an exercise to highlight what was done right as well as identify areas of improvement. The use of simulations is not to supplant existing course materials, but simply to enhance courseware effectiveness where appropriate as well as assess student performa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M content already exists to deliver tailored training to the user.  To deliver simulation content within this framework, simulation systems need to be analyzed to determine whether they can be integrated into the existing SCORM or whether the existing SCORM needs to be extended to enable this type of train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CKGROU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technology and specifically, online access is further entrenched in education and training activities, it is being viewed as a tool to support learning in a variety of learning experiences from formal self-directed autonomous courses to virtual classrooms to the informal instantiated in search and discovery, simulations, and electronic performance support systems (EPSS). Technological tools are also being aggregated as knowledge management and e-learning are converging into meta-systems supporting formal learning, informal learning, learning communities and communities of practice. These meta-systems are also merging the areas of human resource management with online learning in career tracking as well as competency management directly tying course credits and certifications to career paths. As an attempt to keep online learning more meaningful, the overarching tenet is to be learner centric and these convergences are thought to begin to put the learner in control. New types of interactions and learning experiences have to be considered and developed according with capabilities offered by the technology. This will require new approaches and techniques to bring technology use to its full potential (Gallagher, 2002). Prominent among these new approaches and techniques is that of simula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e effective, e-learning is considered a partnership of tools.  These tools should be used to represent meaningful problems, situations and contexts (Norton, 2003). As learning and activity are considered inseparable and is embodied in tool usage, learning objects and resources should support the complex interactions required for meaningful learning. According to Jonassen, “Meaningful learning results from the recognition of a problem, the intention to solve it, the conceptual understanding of the system in which the problem occurs, the generation and evaluation of alternative solutions based on alternative perspectives, and reflection on the activities that resulted in its solution” (D. Jonassen &amp; Churchill, 2004). The rich environment presented by a well-designed simulation allows for immersive learning, social negotiation, tool usage and problem solving and is a useful method for creating effective engaging e- learning.</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 name="PlaceHolder 2"/>
          <p:cNvSpPr>
            <a:spLocks noGrp="1"/>
          </p:cNvSpPr>
          <p:nvPr>
            <p:ph/>
          </p:nvPr>
        </p:nvSpPr>
        <p:spPr>
          <a:xfrm>
            <a:off x="1288800" y="112032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9"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4" name="PlaceHolder 2"/>
          <p:cNvSpPr>
            <a:spLocks noGrp="1"/>
          </p:cNvSpPr>
          <p:nvPr>
            <p:ph/>
          </p:nvPr>
        </p:nvSpPr>
        <p:spPr>
          <a:xfrm>
            <a:off x="128880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90528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52176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28880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90528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52176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 name="PlaceHolder 2"/>
          <p:cNvSpPr>
            <a:spLocks noGrp="1"/>
          </p:cNvSpPr>
          <p:nvPr>
            <p:ph type="subTitle"/>
          </p:nvPr>
        </p:nvSpPr>
        <p:spPr>
          <a:xfrm>
            <a:off x="1288800" y="1120320"/>
            <a:ext cx="7738920" cy="538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6"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157120" y="-50760"/>
            <a:ext cx="6986520" cy="3238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 name="PlaceHolder 2"/>
          <p:cNvSpPr>
            <a:spLocks noGrp="1"/>
          </p:cNvSpPr>
          <p:nvPr>
            <p:ph type="subTitle"/>
          </p:nvPr>
        </p:nvSpPr>
        <p:spPr>
          <a:xfrm>
            <a:off x="1288800" y="1120320"/>
            <a:ext cx="7738920" cy="538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 name="PlaceHolder 2"/>
          <p:cNvSpPr>
            <a:spLocks noGrp="1"/>
          </p:cNvSpPr>
          <p:nvPr>
            <p:ph/>
          </p:nvPr>
        </p:nvSpPr>
        <p:spPr>
          <a:xfrm>
            <a:off x="1288800" y="112032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8"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 name="PlaceHolder 2"/>
          <p:cNvSpPr>
            <a:spLocks noGrp="1"/>
          </p:cNvSpPr>
          <p:nvPr>
            <p:ph/>
          </p:nvPr>
        </p:nvSpPr>
        <p:spPr>
          <a:xfrm>
            <a:off x="128880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90528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52176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128880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90528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52176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57120" y="-50760"/>
            <a:ext cx="6986520" cy="3238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157120" y="-50760"/>
            <a:ext cx="6986520" cy="698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2" name="PlaceHolder 2"/>
          <p:cNvSpPr>
            <a:spLocks noGrp="1"/>
          </p:cNvSpPr>
          <p:nvPr>
            <p:ph type="body"/>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6816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5400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31920" indent="-163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159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159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159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8545680" y="6597720"/>
            <a:ext cx="755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92C3-4AF8-4DDE-9C6E-F1C192F05AF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5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3240" indent="149400" algn="ctr">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20880" indent="147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98440" indent="147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9844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9844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atrick.s.gallagher@saic.com" TargetMode="External"/><Relationship Id="rId2" Type="http://schemas.openxmlformats.org/officeDocument/2006/relationships/hyperlink" Target="mailto:patrick.s.gallagher@saic.com" TargetMode="External"/><Relationship Id="rId3" Type="http://schemas.openxmlformats.org/officeDocument/2006/relationships/hyperlink" Target="mailto:jeffrey.todd.littlejohn@saic.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3489480" y="3462480"/>
            <a:ext cx="5246640" cy="175248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rick Shane Gallagher</a:t>
            </a:r>
            <a:br>
              <a:rPr sz="1400"/>
            </a:br>
            <a:r>
              <a:rPr b="0" lang="en-US" sz="1400" spc="-1" strike="noStrike">
                <a:solidFill>
                  <a:srgbClr val="000000"/>
                </a:solidFill>
                <a:latin typeface="Arial"/>
              </a:rPr>
              <a:t>Sr. Knowledge Engineer</a:t>
            </a:r>
            <a:br>
              <a:rPr sz="1400"/>
            </a:br>
            <a:r>
              <a:rPr b="0" lang="en-US" sz="1400" spc="-1" strike="noStrike">
                <a:solidFill>
                  <a:srgbClr val="000000"/>
                </a:solidFill>
                <a:latin typeface="Arial"/>
              </a:rPr>
              <a:t>1710 SAIC Drive</a:t>
            </a:r>
            <a:br>
              <a:rPr sz="1400"/>
            </a:br>
            <a:r>
              <a:rPr b="0" lang="en-US" sz="1400" spc="-1" strike="noStrike">
                <a:solidFill>
                  <a:srgbClr val="000000"/>
                </a:solidFill>
                <a:latin typeface="Arial"/>
              </a:rPr>
              <a:t>McLean, VA 22102</a:t>
            </a:r>
            <a:br>
              <a:rPr sz="1400"/>
            </a:br>
            <a:r>
              <a:rPr b="0" lang="en-US" sz="1400" spc="-1" strike="noStrike" u="sng">
                <a:solidFill>
                  <a:srgbClr val="ccccff"/>
                </a:solidFill>
                <a:uFillTx/>
                <a:latin typeface="Arial"/>
                <a:hlinkClick r:id="rId1"/>
              </a:rPr>
              <a:t>patrick.s.gallagher@saic.com</a:t>
            </a:r>
            <a:r>
              <a:rPr b="0" lang="en-US" sz="1400" spc="-1" strike="noStrike" u="sng">
                <a:solidFill>
                  <a:srgbClr val="ccccff"/>
                </a:solidFill>
                <a:uFillTx/>
                <a:latin typeface="Arial"/>
                <a:hlinkClick r:id="rId2"/>
              </a:rPr>
              <a:t>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Todd Littlejohn</a:t>
            </a:r>
            <a:br>
              <a:rPr sz="1400"/>
            </a:br>
            <a:r>
              <a:rPr b="0" lang="en-US" sz="1400" spc="-1" strike="noStrike">
                <a:solidFill>
                  <a:srgbClr val="000000"/>
                </a:solidFill>
                <a:latin typeface="Arial"/>
              </a:rPr>
              <a:t>System Engineer</a:t>
            </a:r>
            <a:br>
              <a:rPr sz="1400"/>
            </a:br>
            <a:r>
              <a:rPr b="0" lang="en-US" sz="1400" spc="-1" strike="noStrike">
                <a:solidFill>
                  <a:srgbClr val="000000"/>
                </a:solidFill>
                <a:latin typeface="Arial"/>
              </a:rPr>
              <a:t>12901 Science Dr.</a:t>
            </a:r>
            <a:br>
              <a:rPr sz="1400"/>
            </a:br>
            <a:r>
              <a:rPr b="0" lang="en-US" sz="1400" spc="-1" strike="noStrike">
                <a:solidFill>
                  <a:srgbClr val="000000"/>
                </a:solidFill>
                <a:latin typeface="Arial"/>
              </a:rPr>
              <a:t>Orlando, FL  32828</a:t>
            </a:r>
            <a:br>
              <a:rPr sz="1400"/>
            </a:br>
            <a:r>
              <a:rPr b="0" lang="en-US" sz="1400" spc="-1" strike="noStrike" u="sng">
                <a:solidFill>
                  <a:srgbClr val="ccccff"/>
                </a:solidFill>
                <a:uFillTx/>
                <a:latin typeface="Arial"/>
                <a:hlinkClick r:id="rId3"/>
              </a:rPr>
              <a:t>jeffrey.todd.littlejohn@saic.com</a:t>
            </a:r>
            <a:endParaRPr b="0" lang="en-US" sz="1400" spc="-1" strike="noStrike">
              <a:solidFill>
                <a:srgbClr val="000000"/>
              </a:solidFill>
              <a:latin typeface="Arial"/>
            </a:endParaRPr>
          </a:p>
        </p:txBody>
      </p:sp>
      <p:sp>
        <p:nvSpPr>
          <p:cNvPr id="87" name="PlaceHolder 2"/>
          <p:cNvSpPr>
            <a:spLocks noGrp="1"/>
          </p:cNvSpPr>
          <p:nvPr>
            <p:ph type="title"/>
          </p:nvPr>
        </p:nvSpPr>
        <p:spPr>
          <a:xfrm>
            <a:off x="1955880" y="2285640"/>
            <a:ext cx="678168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presenting Simulations within SCORM</a:t>
            </a: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llis</a:t>
            </a:r>
            <a:endParaRPr b="0" lang="en-US" sz="2800" spc="-1" strike="noStrike">
              <a:solidFill>
                <a:srgbClr val="ffffff"/>
              </a:solidFill>
              <a:latin typeface="Arial Black"/>
            </a:endParaRPr>
          </a:p>
        </p:txBody>
      </p:sp>
      <p:sp>
        <p:nvSpPr>
          <p:cNvPr id="106"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visualization</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etermined content</a:t>
            </a:r>
            <a:endParaRPr b="0" lang="en-US" sz="18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determined by selection of an initial vantage point</a:t>
            </a:r>
            <a:endParaRPr b="0" lang="en-US" sz="18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different values of variables on the most likely outcome within a more complicated systems or process</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r experiment steps otherwise not able to be performed</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different values of variables on the output of formula</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playing</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etermined optimal sequences of decisions</a:t>
            </a:r>
            <a:endParaRPr b="0" lang="en-US" sz="18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judgements made outside the program about decision combinations</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building opportunities</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r creates and manipulates imaginary systems</a:t>
            </a:r>
            <a:endParaRPr b="0" lang="en-US" sz="1800" spc="-1" strike="noStrike">
              <a:solidFill>
                <a:srgbClr val="000000"/>
              </a:solidFill>
              <a:latin typeface="Arial"/>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IC</a:t>
            </a:r>
            <a:endParaRPr b="0" lang="en-US" sz="2800" spc="-1" strike="noStrike">
              <a:solidFill>
                <a:srgbClr val="ffffff"/>
              </a:solidFill>
              <a:latin typeface="Arial Black"/>
            </a:endParaRPr>
          </a:p>
        </p:txBody>
      </p:sp>
      <p:sp>
        <p:nvSpPr>
          <p:cNvPr id="108"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ering and analysis simulations</a:t>
            </a:r>
            <a:endParaRPr b="1" lang="en-US" sz="18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ngineer/scientist) can modify the system simulation and then test that against a known set of input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s real-world performance</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used for product development and simulation based acquisition (SBA</a:t>
            </a:r>
            <a:endParaRPr b="0" lang="en-US" sz="1600" spc="-1" strike="noStrike">
              <a:solidFill>
                <a:srgbClr val="000000"/>
              </a:solidFill>
              <a:latin typeface="Arial"/>
            </a:endParaRPr>
          </a:p>
          <a:p>
            <a:pPr marL="177840" indent="-177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ve simulations</a:t>
            </a:r>
            <a:endParaRPr b="1" lang="en-US" sz="18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system that can be used to support various modeling and simulation (M&amp;S) domain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n environment that models physical and cognitive behaviors of complex entitie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realistic immersive environment for trainee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2" marL="954000" indent="-1713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SAF Objective System (OOS</a:t>
            </a:r>
            <a:endParaRPr b="0" lang="en-US" sz="1400" spc="-1" strike="noStrike">
              <a:solidFill>
                <a:srgbClr val="000000"/>
              </a:solidFill>
              <a:latin typeface="Arial"/>
            </a:endParaRPr>
          </a:p>
          <a:p>
            <a:pPr marL="177840" indent="-177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simulations</a:t>
            </a:r>
            <a:endParaRPr b="1" lang="en-US" sz="18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is immersed in a virtual environment to provide a more realistic experience.</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been used to train personnel on individual tactics and procedure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used to focus on specific environments which the learner may encounter in the future or on the specific learning outcomes desired</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2" marL="954000" indent="-1713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y’s F-18 Distributed Mission Trainer (DMT)</a:t>
            </a:r>
            <a:endParaRPr b="0" lang="en-US" sz="1400" spc="-1" strike="noStrike">
              <a:solidFill>
                <a:srgbClr val="000000"/>
              </a:solidFill>
              <a:latin typeface="Arial"/>
            </a:endParaRPr>
          </a:p>
          <a:p>
            <a:pPr marL="17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racteristics</a:t>
            </a:r>
            <a:endParaRPr b="0" lang="en-US" sz="2800" spc="-1" strike="noStrike">
              <a:solidFill>
                <a:srgbClr val="ffffff"/>
              </a:solidFill>
              <a:latin typeface="Arial Black"/>
            </a:endParaRPr>
          </a:p>
        </p:txBody>
      </p:sp>
      <p:sp>
        <p:nvSpPr>
          <p:cNvPr id="110"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domain</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structure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concept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onship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ction processes of knowledge structures</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entic problem</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necessarily one-to-one correspondence to an existing problem</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itimately exist in real-world context</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presentational structur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l-defined in terms of outcomes</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xt or setting</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d universes set in a real or an imaginary context</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defined as a grid identifying sectors of the overall univers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s clues to understanding the univers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be manipulated as part of the problem-solving process</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s</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s that define the universe of a simulation</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ed by learners or user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be uncovered as the simulation is played - can be menus, etc.</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of interaction</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 the variable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ed in the simulation structur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be discoverable by learners</a:t>
            </a:r>
            <a:endParaRPr b="0" lang="en-US" sz="1400" spc="-1" strike="noStrike">
              <a:solidFill>
                <a:srgbClr val="000000"/>
              </a:solidFill>
              <a:latin typeface="Arial"/>
            </a:endParaRPr>
          </a:p>
          <a:p>
            <a:pPr marL="17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blem</a:t>
            </a:r>
            <a:endParaRPr b="0" lang="en-US" sz="2800" spc="-1" strike="noStrike">
              <a:solidFill>
                <a:srgbClr val="ffffff"/>
              </a:solidFill>
              <a:latin typeface="Arial Black"/>
            </a:endParaRPr>
          </a:p>
        </p:txBody>
      </p:sp>
      <p:pic>
        <p:nvPicPr>
          <p:cNvPr id="112" name="" descr=""/>
          <p:cNvPicPr/>
          <p:nvPr/>
        </p:nvPicPr>
        <p:blipFill>
          <a:blip r:embed="rId1"/>
          <a:stretch/>
        </p:blipFill>
        <p:spPr>
          <a:xfrm>
            <a:off x="1289160" y="2112840"/>
            <a:ext cx="7738920" cy="339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mulations need standardization</a:t>
            </a:r>
            <a:endParaRPr b="0" lang="en-US" sz="2800" spc="-1" strike="noStrike">
              <a:solidFill>
                <a:srgbClr val="ffffff"/>
              </a:solidFill>
              <a:latin typeface="Arial Black"/>
            </a:endParaRPr>
          </a:p>
        </p:txBody>
      </p:sp>
      <p:sp>
        <p:nvSpPr>
          <p:cNvPr id="114"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us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oper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s the online learning value proposition to be reached</a:t>
            </a:r>
            <a:endParaRPr b="1" lang="en-US" sz="24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57120" y="-50760"/>
            <a:ext cx="6986520" cy="698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CORM Support</a:t>
            </a:r>
            <a:endParaRPr b="0" lang="en-US" sz="2800" spc="-1" strike="noStrike">
              <a:solidFill>
                <a:srgbClr val="ffffff"/>
              </a:solidFill>
              <a:latin typeface="Arial Black"/>
            </a:endParaRPr>
          </a:p>
        </p:txBody>
      </p:sp>
      <p:sp>
        <p:nvSpPr>
          <p:cNvPr id="116"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sence of the problem</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describe and support simulations using SCORM 1.3.1?</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s to the research questions</a:t>
            </a:r>
            <a:endParaRPr b="1" lang="en-US" sz="24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search Questions</a:t>
            </a:r>
            <a:endParaRPr b="0" lang="en-US" sz="2800" spc="-1" strike="noStrike">
              <a:solidFill>
                <a:srgbClr val="ffffff"/>
              </a:solidFill>
              <a:latin typeface="Arial Black"/>
            </a:endParaRPr>
          </a:p>
        </p:txBody>
      </p:sp>
      <p:sp>
        <p:nvSpPr>
          <p:cNvPr id="118"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questions</a:t>
            </a:r>
            <a:endParaRPr b="1" lang="en-US" sz="18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simulations be represented as SCORM content?</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simulation context (i.e., scenario) represented within SCORM content?</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SCORM controlled simulations, with scenario/context, constructed?</a:t>
            </a:r>
            <a:endParaRPr b="0" lang="en-US" sz="1600" spc="-1" strike="noStrike">
              <a:solidFill>
                <a:srgbClr val="000000"/>
              </a:solidFill>
              <a:latin typeface="Arial"/>
            </a:endParaRPr>
          </a:p>
          <a:p>
            <a:pPr lvl="2" marL="954000" indent="-1713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gregation of scenario and simulation (driven by student’s requirements)</a:t>
            </a:r>
            <a:endParaRPr b="0" lang="en-US" sz="14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learning management system (LMS) interact with the simulation?</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y of the simulation</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a scenario to the simulation</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on with simulation for assessment/after action review</a:t>
            </a:r>
            <a:endParaRPr b="0" lang="en-US" sz="1600" spc="-1" strike="noStrike">
              <a:solidFill>
                <a:srgbClr val="000000"/>
              </a:solidFill>
              <a:latin typeface="Arial"/>
            </a:endParaRPr>
          </a:p>
          <a:p>
            <a:pPr lvl="2" marL="954000" indent="-1713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ation of HLA to support capture of information necessary for assessment and review (i.e., like Brief/Debrief System B/DS)</a:t>
            </a:r>
            <a:endParaRPr b="0" lang="en-US" sz="14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the knowledge domain of a simulation best be represented?</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an authentic problem be represented?</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the context or setting best represented? </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are the variables represented?</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the rules of interaction be represented?</a:t>
            </a:r>
            <a:endParaRPr b="1" lang="en-US" sz="18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ethodology</a:t>
            </a:r>
            <a:endParaRPr b="0" lang="en-US" sz="2800" spc="-1" strike="noStrike">
              <a:solidFill>
                <a:srgbClr val="ffffff"/>
              </a:solidFill>
              <a:latin typeface="Arial Black"/>
            </a:endParaRPr>
          </a:p>
        </p:txBody>
      </p:sp>
      <p:pic>
        <p:nvPicPr>
          <p:cNvPr id="120" name="" descr=""/>
          <p:cNvPicPr/>
          <p:nvPr/>
        </p:nvPicPr>
        <p:blipFill>
          <a:blip r:embed="rId1"/>
          <a:stretch/>
        </p:blipFill>
        <p:spPr>
          <a:xfrm>
            <a:off x="1289160" y="2698920"/>
            <a:ext cx="7738920" cy="2225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alysis</a:t>
            </a:r>
            <a:endParaRPr b="0" lang="en-US" sz="2800" spc="-1" strike="noStrike">
              <a:solidFill>
                <a:srgbClr val="ffffff"/>
              </a:solidFill>
              <a:latin typeface="Arial Black"/>
            </a:endParaRPr>
          </a:p>
        </p:txBody>
      </p:sp>
      <p:sp>
        <p:nvSpPr>
          <p:cNvPr id="122"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alyze and classify simulation types and their characteristics</a:t>
            </a:r>
            <a:endParaRPr b="1" lang="en-US" sz="1900" spc="-1" strike="noStrike">
              <a:solidFill>
                <a:srgbClr val="000000"/>
              </a:solidFill>
              <a:latin typeface="Arial"/>
            </a:endParaRPr>
          </a:p>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alyze the SCORM Learning Object Metadata (LOM) for necessary metadata fields and/or elements and decide if and which extensions need to occur if utilizing SCOS</a:t>
            </a:r>
            <a:endParaRPr b="1" lang="en-US" sz="1900" spc="-1" strike="noStrike">
              <a:solidFill>
                <a:srgbClr val="000000"/>
              </a:solidFill>
              <a:latin typeface="Arial"/>
            </a:endParaRPr>
          </a:p>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alyze the SCORM Runtime Environment (RTE) for affordances supporting the interactions necessary by simulation type and identify the gaps if they exist</a:t>
            </a:r>
            <a:endParaRPr b="1" lang="en-US" sz="1900" spc="-1" strike="noStrike">
              <a:solidFill>
                <a:srgbClr val="000000"/>
              </a:solidFill>
              <a:latin typeface="Arial"/>
            </a:endParaRPr>
          </a:p>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tential Analysis Outcomes</a:t>
            </a:r>
            <a:endParaRPr b="1" lang="en-US" sz="1900" spc="-1" strike="noStrike">
              <a:solidFill>
                <a:srgbClr val="000000"/>
              </a:solidFill>
              <a:latin typeface="Arial"/>
            </a:endParaRPr>
          </a:p>
          <a:p>
            <a:pPr lvl="1" marL="668160" indent="-214200">
              <a:lnSpc>
                <a:spcPct val="12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gaps in the LOM and RTE if they exist</a:t>
            </a:r>
            <a:endParaRPr b="0" lang="en-US" sz="1700" spc="-1" strike="noStrike">
              <a:solidFill>
                <a:srgbClr val="000000"/>
              </a:solidFill>
              <a:latin typeface="Arial"/>
            </a:endParaRPr>
          </a:p>
          <a:p>
            <a:pPr lvl="1" marL="668160" indent="-214200">
              <a:lnSpc>
                <a:spcPct val="12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the SCORM aggregation level of the Content Aggregation Model (CAM) that will support simulations</a:t>
            </a:r>
            <a:endParaRPr b="0" lang="en-US" sz="1700" spc="-1" strike="noStrike">
              <a:solidFill>
                <a:srgbClr val="000000"/>
              </a:solidFill>
              <a:latin typeface="Arial"/>
            </a:endParaRPr>
          </a:p>
          <a:p>
            <a:pPr lvl="1" marL="668160" indent="-214200">
              <a:lnSpc>
                <a:spcPct val="12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the possibility of and how to represent abstracted simulation types in the manifest by using the Sequencing and Navigation mode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sign</a:t>
            </a:r>
            <a:endParaRPr b="0" lang="en-US" sz="2800" spc="-1" strike="noStrike">
              <a:solidFill>
                <a:srgbClr val="ffffff"/>
              </a:solidFill>
              <a:latin typeface="Arial Black"/>
            </a:endParaRPr>
          </a:p>
        </p:txBody>
      </p:sp>
      <p:sp>
        <p:nvSpPr>
          <p:cNvPr id="124"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125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Design Outcomes</a:t>
            </a:r>
            <a:endParaRPr b="1" lang="en-US" sz="2400" spc="-1" strike="noStrike">
              <a:solidFill>
                <a:srgbClr val="000000"/>
              </a:solidFill>
              <a:latin typeface="Arial"/>
            </a:endParaRPr>
          </a:p>
          <a:p>
            <a:pPr lvl="1" marL="668160" indent="-21420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extensions to the SCORM LOM,as defined by the gaps</a:t>
            </a:r>
            <a:endParaRPr b="0" lang="en-US" sz="2000" spc="-1" strike="noStrike">
              <a:solidFill>
                <a:srgbClr val="000000"/>
              </a:solidFill>
              <a:latin typeface="Arial"/>
            </a:endParaRPr>
          </a:p>
          <a:p>
            <a:pPr lvl="1" marL="668160" indent="-21420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specific SCO typologies that can exist within SCORM to support </a:t>
            </a:r>
            <a:endParaRPr b="0" lang="en-US" sz="20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68760"/>
            <a:ext cx="7620120" cy="459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presenting Simulations within SCORM</a:t>
            </a:r>
            <a:endParaRPr b="0" lang="en-US" sz="2400" spc="-1" strike="noStrike">
              <a:solidFill>
                <a:srgbClr val="ffffff"/>
              </a:solidFill>
              <a:latin typeface="Arial Black"/>
            </a:endParaRPr>
          </a:p>
        </p:txBody>
      </p:sp>
      <p:pic>
        <p:nvPicPr>
          <p:cNvPr id="89" name="" descr=""/>
          <p:cNvPicPr/>
          <p:nvPr/>
        </p:nvPicPr>
        <p:blipFill>
          <a:blip r:embed="rId1"/>
          <a:stretch/>
        </p:blipFill>
        <p:spPr>
          <a:xfrm>
            <a:off x="1289160" y="1301760"/>
            <a:ext cx="7738920" cy="501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sign</a:t>
            </a:r>
            <a:endParaRPr b="0" lang="en-US" sz="2800" spc="-1" strike="noStrike">
              <a:solidFill>
                <a:srgbClr val="ffffff"/>
              </a:solidFill>
              <a:latin typeface="Arial Black"/>
            </a:endParaRPr>
          </a:p>
        </p:txBody>
      </p:sp>
      <p:pic>
        <p:nvPicPr>
          <p:cNvPr id="126" name="" descr=""/>
          <p:cNvPicPr/>
          <p:nvPr/>
        </p:nvPicPr>
        <p:blipFill>
          <a:blip r:embed="rId1"/>
          <a:stretch/>
        </p:blipFill>
        <p:spPr>
          <a:xfrm>
            <a:off x="1884240" y="1108080"/>
            <a:ext cx="6621480" cy="5568840"/>
          </a:xfrm>
          <a:prstGeom prst="rect">
            <a:avLst/>
          </a:prstGeom>
          <a:ln w="0">
            <a:noFill/>
          </a:ln>
        </p:spPr>
      </p:pic>
      <p:sp>
        <p:nvSpPr>
          <p:cNvPr id="127" name=""/>
          <p:cNvSpPr/>
          <p:nvPr/>
        </p:nvSpPr>
        <p:spPr>
          <a:xfrm>
            <a:off x="3581280" y="2409840"/>
            <a:ext cx="5229360" cy="2409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7"/>
                                        </p:tgtEl>
                                        <p:attrNameLst>
                                          <p:attrName>style.visibility</p:attrName>
                                        </p:attrNameLst>
                                      </p:cBhvr>
                                      <p:to>
                                        <p:strVal val="visible"/>
                                      </p:to>
                                    </p:set>
                                    <p:animEffect filter="dissolve" transition="in">
                                      <p:cBhvr additive="repl">
                                        <p:cTn id="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57120" y="-50760"/>
            <a:ext cx="6986520" cy="698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lusion</a:t>
            </a:r>
            <a:endParaRPr b="0" lang="en-US" sz="2800" spc="-1" strike="noStrike">
              <a:solidFill>
                <a:srgbClr val="ffffff"/>
              </a:solidFill>
              <a:latin typeface="Arial Black"/>
            </a:endParaRPr>
          </a:p>
        </p:txBody>
      </p:sp>
      <p:sp>
        <p:nvSpPr>
          <p:cNvPr id="129"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s can allow for more meaningful learning experiences and assessment</a:t>
            </a:r>
            <a:endParaRPr b="1" lang="en-US" sz="24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istribute simulations, they need to have standardization</a:t>
            </a:r>
            <a:endParaRPr b="1" lang="en-US" sz="24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endParaRPr b="1" lang="en-US" sz="24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M 1.3.1 will support standardization and distributing of simulations </a:t>
            </a:r>
            <a:endParaRPr b="0" lang="en-US" sz="20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1" lang="en-US" sz="24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typology of simulations and requirements - abstractions</a:t>
            </a:r>
            <a:endParaRPr b="0" lang="en-US" sz="20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typology of activities and SCOs that support simulation abstractions</a:t>
            </a:r>
            <a:endParaRPr b="0" lang="en-US" sz="20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1" lang="en-US" sz="24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Learning Object Content Model (LOCM) as an extension of SCORM 1.3.1 for supporting simulations</a:t>
            </a:r>
            <a:endParaRPr b="0" lang="en-US" sz="2000" spc="-1" strike="noStrike">
              <a:solidFill>
                <a:srgbClr val="000000"/>
              </a:solidFill>
              <a:latin typeface="Arial"/>
            </a:endParaRPr>
          </a:p>
          <a:p>
            <a:pPr marL="17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1" dur="500"/>
                                        <p:tgtEl>
                                          <p:spTgt spid="12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6" dur="500"/>
                                        <p:tgtEl>
                                          <p:spTgt spid="129">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31" dur="500"/>
                                        <p:tgtEl>
                                          <p:spTgt spid="129">
                                            <p:txEl>
                                              <p:pRg st="2" end="2"/>
                                            </p:txEl>
                                          </p:spTgt>
                                        </p:tgtEl>
                                      </p:cBhvr>
                                    </p:animEffect>
                                  </p:childTnLst>
                                </p:cTn>
                              </p:par>
                              <p:par>
                                <p:cTn id="32" nodeType="withEffect" fill="hold" presetClass="entr" presetID="9">
                                  <p:stCondLst>
                                    <p:cond delay="0"/>
                                  </p:stCondLst>
                                  <p:childTnLst>
                                    <p:set>
                                      <p:cBhvr>
                                        <p:cTn id="33"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34" dur="500"/>
                                        <p:tgtEl>
                                          <p:spTgt spid="12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39" dur="500"/>
                                        <p:tgtEl>
                                          <p:spTgt spid="129">
                                            <p:txEl>
                                              <p:pRg st="4" end="4"/>
                                            </p:txEl>
                                          </p:spTgt>
                                        </p:tgtEl>
                                      </p:cBhvr>
                                    </p:animEffect>
                                  </p:childTnLst>
                                </p:cTn>
                              </p:par>
                              <p:par>
                                <p:cTn id="40" nodeType="withEffect" fill="hold" presetClass="entr" presetID="9">
                                  <p:stCondLst>
                                    <p:cond delay="0"/>
                                  </p:stCondLst>
                                  <p:childTnLst>
                                    <p:set>
                                      <p:cBhvr>
                                        <p:cTn id="41"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42" dur="500"/>
                                        <p:tgtEl>
                                          <p:spTgt spid="129">
                                            <p:txEl>
                                              <p:pRg st="5" end="5"/>
                                            </p:txEl>
                                          </p:spTgt>
                                        </p:tgtEl>
                                      </p:cBhvr>
                                    </p:animEffect>
                                  </p:childTnLst>
                                </p:cTn>
                              </p:par>
                              <p:par>
                                <p:cTn id="43" nodeType="withEffect" fill="hold" presetClass="entr" presetID="9">
                                  <p:stCondLst>
                                    <p:cond delay="0"/>
                                  </p:stCondLst>
                                  <p:childTnLst>
                                    <p:set>
                                      <p:cBhvr>
                                        <p:cTn id="44"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45" dur="500"/>
                                        <p:tgtEl>
                                          <p:spTgt spid="129">
                                            <p:txEl>
                                              <p:pRg st="6" end="6"/>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9">
                                            <p:txEl>
                                              <p:pRg st="7" end="7"/>
                                            </p:txEl>
                                          </p:spTgt>
                                        </p:tgtEl>
                                        <p:attrNameLst>
                                          <p:attrName>style.visibility</p:attrName>
                                        </p:attrNameLst>
                                      </p:cBhvr>
                                      <p:to>
                                        <p:strVal val="visible"/>
                                      </p:to>
                                    </p:set>
                                    <p:animEffect filter="dissolve" transition="in">
                                      <p:cBhvr additive="repl">
                                        <p:cTn id="50" dur="500"/>
                                        <p:tgtEl>
                                          <p:spTgt spid="129">
                                            <p:txEl>
                                              <p:pRg st="7" end="7"/>
                                            </p:txEl>
                                          </p:spTgt>
                                        </p:tgtEl>
                                      </p:cBhvr>
                                    </p:animEffect>
                                  </p:childTnLst>
                                </p:cTn>
                              </p:par>
                              <p:par>
                                <p:cTn id="51" nodeType="withEffect" fill="hold" presetClass="entr" presetID="9">
                                  <p:stCondLst>
                                    <p:cond delay="0"/>
                                  </p:stCondLst>
                                  <p:childTnLst>
                                    <p:set>
                                      <p:cBhvr>
                                        <p:cTn id="52"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53" dur="5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ffffff"/>
              </a:solidFill>
              <a:latin typeface="Arial Black"/>
            </a:endParaRPr>
          </a:p>
        </p:txBody>
      </p:sp>
      <p:pic>
        <p:nvPicPr>
          <p:cNvPr id="131" name="" descr=""/>
          <p:cNvPicPr/>
          <p:nvPr/>
        </p:nvPicPr>
        <p:blipFill>
          <a:blip r:embed="rId1"/>
          <a:stretch/>
        </p:blipFill>
        <p:spPr>
          <a:xfrm>
            <a:off x="1289160" y="2214720"/>
            <a:ext cx="7738920" cy="31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erspective</a:t>
            </a:r>
            <a:endParaRPr b="0" lang="en-US" sz="2800" spc="-1" strike="noStrike">
              <a:solidFill>
                <a:srgbClr val="ffffff"/>
              </a:solidFill>
              <a:latin typeface="Arial Black"/>
            </a:endParaRPr>
          </a:p>
        </p:txBody>
      </p:sp>
      <p:pic>
        <p:nvPicPr>
          <p:cNvPr id="91" name="" descr=""/>
          <p:cNvPicPr/>
          <p:nvPr/>
        </p:nvPicPr>
        <p:blipFill>
          <a:blip r:embed="rId1"/>
          <a:stretch/>
        </p:blipFill>
        <p:spPr>
          <a:xfrm>
            <a:off x="1289160" y="2808360"/>
            <a:ext cx="7738920" cy="200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arning</a:t>
            </a:r>
            <a:endParaRPr b="0" lang="en-US" sz="2800" spc="-1" strike="noStrike">
              <a:solidFill>
                <a:srgbClr val="ffffff"/>
              </a:solidFill>
              <a:latin typeface="Arial Black"/>
            </a:endParaRPr>
          </a:p>
        </p:txBody>
      </p:sp>
      <p:pic>
        <p:nvPicPr>
          <p:cNvPr id="93" name="" descr=""/>
          <p:cNvPicPr/>
          <p:nvPr/>
        </p:nvPicPr>
        <p:blipFill>
          <a:blip r:embed="rId1"/>
          <a:stretch/>
        </p:blipFill>
        <p:spPr>
          <a:xfrm>
            <a:off x="1289160" y="1314360"/>
            <a:ext cx="7738920" cy="499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ow do people learn best online?</a:t>
            </a:r>
            <a:endParaRPr b="0" lang="en-US" sz="2800" spc="-1" strike="noStrike">
              <a:solidFill>
                <a:srgbClr val="ffffff"/>
              </a:solidFill>
              <a:latin typeface="Arial Black"/>
            </a:endParaRPr>
          </a:p>
        </p:txBody>
      </p:sp>
      <p:sp>
        <p:nvSpPr>
          <p:cNvPr id="95"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Meaningful learning results from the recognition of a problem, the intention to solve it, the conceptual understanding of the system in which the problem occurs, the generation and evaluation of alternative solutions based on alternative perspectives, and reflection on the activities that resulted in its solution (Jonassen &amp; Churchhill 2004).”</a:t>
            </a:r>
            <a:endParaRPr b="1" lang="en-US" sz="18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hip of tools used to represent meaningful problems</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and activity are considered insepar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bodied in tool usag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objects (SCOs) and resources should support the complex interactions required for meaningful learning</a:t>
            </a:r>
            <a:endParaRPr b="1" lang="en-US" sz="2400" spc="-1" strike="noStrike">
              <a:solidFill>
                <a:srgbClr val="000000"/>
              </a:solidFill>
              <a:latin typeface="Arial"/>
            </a:endParaRPr>
          </a:p>
        </p:txBody>
      </p:sp>
      <p:sp>
        <p:nvSpPr>
          <p:cNvPr id="96" name=""/>
          <p:cNvSpPr/>
          <p:nvPr/>
        </p:nvSpPr>
        <p:spPr>
          <a:xfrm>
            <a:off x="1562040" y="5877000"/>
            <a:ext cx="70772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aningful learning can occur in a well designed sim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mulation Attributes</a:t>
            </a:r>
            <a:endParaRPr b="0" lang="en-US" sz="2800" spc="-1" strike="noStrike">
              <a:solidFill>
                <a:srgbClr val="ffffff"/>
              </a:solidFill>
              <a:latin typeface="Arial Black"/>
            </a:endParaRPr>
          </a:p>
        </p:txBody>
      </p:sp>
      <p:pic>
        <p:nvPicPr>
          <p:cNvPr id="98" name="" descr=""/>
          <p:cNvPicPr/>
          <p:nvPr/>
        </p:nvPicPr>
        <p:blipFill>
          <a:blip r:embed="rId1"/>
          <a:stretch/>
        </p:blipFill>
        <p:spPr>
          <a:xfrm>
            <a:off x="1289160" y="2614680"/>
            <a:ext cx="7738920" cy="23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tions</a:t>
            </a:r>
            <a:endParaRPr b="0" lang="en-US" sz="2800" spc="-1" strike="noStrike">
              <a:solidFill>
                <a:srgbClr val="ffffff"/>
              </a:solidFill>
              <a:latin typeface="Arial Black"/>
            </a:endParaRPr>
          </a:p>
        </p:txBody>
      </p:sp>
      <p:sp>
        <p:nvSpPr>
          <p:cNvPr id="100"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tion or model of event, object or phenomenon</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ized model of a real or imagined system designed to teach how a certain or similar system works</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 learners to manipulate variables</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eterministic - outcomes depend on user's decisions and actions</a:t>
            </a:r>
            <a:endParaRPr b="1" lang="en-US" sz="24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tegories</a:t>
            </a:r>
            <a:endParaRPr b="0" lang="en-US" sz="2800" spc="-1" strike="noStrike">
              <a:solidFill>
                <a:srgbClr val="ffffff"/>
              </a:solidFill>
              <a:latin typeface="Arial Black"/>
            </a:endParaRPr>
          </a:p>
        </p:txBody>
      </p:sp>
      <p:sp>
        <p:nvSpPr>
          <p:cNvPr id="102"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by person or entity</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scilla Norton</a:t>
            </a:r>
            <a:endParaRPr b="0" lang="en-US" sz="20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 of Education</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e School of Education</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Mason University, Fairfax, VA</a:t>
            </a:r>
            <a:endParaRPr b="0" lang="en-US" sz="18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Betty Collis</a:t>
            </a:r>
            <a:r>
              <a:rPr b="1" i="1" lang="en-GB" sz="2000" spc="-1" strike="noStrike">
                <a:solidFill>
                  <a:srgbClr val="000000"/>
                </a:solidFill>
                <a:latin typeface="Arial"/>
              </a:rPr>
              <a:t> </a:t>
            </a:r>
            <a:endParaRPr b="0" lang="en-US" sz="20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l Professor of Networked Learning (2001-2005)</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fessor of Technology for Strategy, Learning and Change</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ulty of Behavioural Sciences, </a:t>
            </a:r>
            <a:br>
              <a:rPr sz="1800"/>
            </a:br>
            <a:r>
              <a:rPr b="0" lang="en-GB" sz="1800" spc="-1" strike="noStrike">
                <a:solidFill>
                  <a:srgbClr val="000000"/>
                </a:solidFill>
                <a:latin typeface="Arial"/>
              </a:rPr>
              <a:t>University of Twente, The Netherlands</a:t>
            </a:r>
            <a:endParaRPr b="0" lang="en-US" sz="18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IC current categories</a:t>
            </a:r>
            <a:endParaRPr b="0" lang="en-US" sz="20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and Simulation Solutions Business Unit</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lando, FL</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Lean, 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rton</a:t>
            </a:r>
            <a:endParaRPr b="0" lang="en-US" sz="2800" spc="-1" strike="noStrike">
              <a:solidFill>
                <a:srgbClr val="ffffff"/>
              </a:solidFill>
              <a:latin typeface="Arial Black"/>
            </a:endParaRPr>
          </a:p>
        </p:txBody>
      </p:sp>
      <p:sp>
        <p:nvSpPr>
          <p:cNvPr id="104"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r manipulates object or phenomena</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or phenomena are represented on the screen</a:t>
            </a:r>
            <a:endParaRPr b="0" lang="en-US" sz="20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up or slow down processes</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processes that are not easily observable</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 environmental systems, or economics</a:t>
            </a:r>
            <a:endParaRPr b="0" lang="en-US" sz="20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appropriate sequence of steps for procedures</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s simulators, medical diagnostics</a:t>
            </a:r>
            <a:endParaRPr b="0" lang="en-US" sz="20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l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students with varied situations and ask them to devise actions to solve problems within the situations</a:t>
            </a:r>
            <a:endParaRPr b="0" lang="en-US" sz="20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1T18:22:36Z</dcterms:created>
  <dc:creator>Kellye DeVol-Cohen</dc:creator>
  <dc:description/>
  <dc:language>en-US</dc:language>
  <cp:lastModifiedBy>Shane Gallagher</cp:lastModifiedBy>
  <cp:lastPrinted>2003-08-19T18:22:19Z</cp:lastPrinted>
  <dcterms:modified xsi:type="dcterms:W3CDTF">2006-02-01T18:48:09Z</dcterms:modified>
  <cp:revision>68</cp:revision>
  <dc:subject/>
  <dc:title>No Slide Title</dc:title>
</cp:coreProperties>
</file>