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A36-23C0-4938-93D4-DAFA074F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770-662A-4028-A2BA-8BD82BBD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DA19-C198-47BB-9837-F8FFF3AF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11FD-82F0-45BE-A8EC-93FE418C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D1C-F65A-4444-AE37-80AC7A2D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33FE-2626-4891-9398-041C5470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D01-4169-468D-9243-E4F48B3A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3D85-9765-4A5E-B8CE-FBC5EA77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B04-9E6F-416A-B5D3-2398B77E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5D5-C46B-4040-B03E-4E5ED198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A34-04E3-4421-BF0D-EA10252B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4FD3-D08B-44A7-B8A0-237C5BBC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4E93-4C5C-4541-9B83-1820C8829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robson@eduworks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 – SCO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works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robson@eduworks.co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Point to 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external interactivity into a SCORM environment requires SCORM content tha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ular (SC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 Black Bo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ably based on ope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ersist states and assign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Proposed Solution to Present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*Partially supported by the Joint ADL Co-Lab Prototype Progr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: Tyde Richards’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286000" y="953640"/>
            <a:ext cx="5690880" cy="1401840"/>
            <a:chOff x="2286000" y="953640"/>
            <a:chExt cx="5690880" cy="1401840"/>
          </a:xfrm>
        </p:grpSpPr>
        <p:grpSp>
          <p:nvGrpSpPr>
            <p:cNvPr id="49" name=""/>
            <p:cNvGrpSpPr/>
            <p:nvPr/>
          </p:nvGrpSpPr>
          <p:grpSpPr>
            <a:xfrm>
              <a:off x="2286000" y="953640"/>
              <a:ext cx="5017320" cy="1401840"/>
              <a:chOff x="2286000" y="953640"/>
              <a:chExt cx="5017320" cy="1401840"/>
            </a:xfrm>
          </p:grpSpPr>
          <p:sp>
            <p:nvSpPr>
              <p:cNvPr id="50" name=""/>
              <p:cNvSpPr/>
              <p:nvPr/>
            </p:nvSpPr>
            <p:spPr>
              <a:xfrm>
                <a:off x="6059160" y="953640"/>
                <a:ext cx="1179360" cy="867960"/>
              </a:xfrm>
              <a:prstGeom prst="cube">
                <a:avLst>
                  <a:gd name="adj" fmla="val 432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20120" y="1053360"/>
                <a:ext cx="1179720" cy="866880"/>
              </a:xfrm>
              <a:prstGeom prst="cube">
                <a:avLst>
                  <a:gd name="adj" fmla="val 432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596200" y="1149840"/>
                <a:ext cx="1179720" cy="867960"/>
              </a:xfrm>
              <a:prstGeom prst="cube">
                <a:avLst>
                  <a:gd name="adj" fmla="val 432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357160" y="1246320"/>
                <a:ext cx="1179360" cy="869040"/>
              </a:xfrm>
              <a:prstGeom prst="cube">
                <a:avLst>
                  <a:gd name="adj" fmla="val 432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103360" y="1343160"/>
                <a:ext cx="1179720" cy="869040"/>
              </a:xfrm>
              <a:prstGeom prst="cube">
                <a:avLst>
                  <a:gd name="adj" fmla="val 432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759920" y="1439640"/>
                <a:ext cx="1299240" cy="867960"/>
              </a:xfrm>
              <a:prstGeom prst="cube">
                <a:avLst>
                  <a:gd name="adj" fmla="val 432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120" rIns="6012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Mincho"/>
                  </a:rPr>
                  <a:t>Car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Mincho"/>
                  </a:rPr>
                  <a:t>(location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6347880" y="1857600"/>
                <a:ext cx="955440" cy="49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147560" y="1051200"/>
                <a:ext cx="477720" cy="1256400"/>
              </a:xfrm>
              <a:custGeom>
                <a:avLst/>
                <a:gdLst>
                  <a:gd name="textAreaLeft" fmla="*/ 305280 w 477720"/>
                  <a:gd name="textAreaRight" fmla="*/ 478080 w 477720"/>
                  <a:gd name="textAreaTop" fmla="*/ 32760 h 1256400"/>
                  <a:gd name="textAreaBottom" fmla="*/ 1223640 h 1256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6000" y="1338840"/>
                <a:ext cx="1742040" cy="101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6666"/>
                    </a:solidFill>
                    <a:latin typeface="Arial"/>
                    <a:ea typeface="MS Mincho"/>
                  </a:rPr>
                  <a:t>share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6666"/>
                    </a:solidFill>
                    <a:latin typeface="Arial"/>
                    <a:ea typeface="MS Mincho"/>
                  </a:rPr>
                  <a:t>state informa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6666"/>
                    </a:solidFill>
                    <a:latin typeface="Arial"/>
                    <a:ea typeface="MS Mincho"/>
                  </a:rPr>
                  <a:t>across card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7005240" y="2075760"/>
              <a:ext cx="9716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600" rIns="666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navig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538440" y="4167360"/>
            <a:ext cx="5257800" cy="2538360"/>
            <a:chOff x="3538440" y="4167360"/>
            <a:chExt cx="5257800" cy="2538360"/>
          </a:xfrm>
        </p:grpSpPr>
        <p:sp>
          <p:nvSpPr>
            <p:cNvPr id="61" name=""/>
            <p:cNvSpPr/>
            <p:nvPr/>
          </p:nvSpPr>
          <p:spPr>
            <a:xfrm>
              <a:off x="4044960" y="4332240"/>
              <a:ext cx="3270240" cy="2024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44960" y="4691160"/>
              <a:ext cx="3270240" cy="130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95880" y="6040440"/>
              <a:ext cx="12765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Navig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75400" y="4378320"/>
              <a:ext cx="198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Identification/Hea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46760" y="5122800"/>
              <a:ext cx="14936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Content Reg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55120" y="5391000"/>
              <a:ext cx="1028520" cy="814680"/>
            </a:xfrm>
            <a:prstGeom prst="cube">
              <a:avLst>
                <a:gd name="adj" fmla="val 4328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lear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specif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cont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ele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69160" y="4359240"/>
              <a:ext cx="1027080" cy="814320"/>
            </a:xfrm>
            <a:prstGeom prst="cube">
              <a:avLst>
                <a:gd name="adj" fmla="val 432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gener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cont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ele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67640" y="5546880"/>
              <a:ext cx="382320" cy="303120"/>
            </a:xfrm>
            <a:prstGeom prst="cube">
              <a:avLst>
                <a:gd name="adj" fmla="val 4328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70880" y="4884840"/>
              <a:ext cx="380880" cy="304560"/>
            </a:xfrm>
            <a:prstGeom prst="cube">
              <a:avLst>
                <a:gd name="adj" fmla="val 432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22960" y="5707080"/>
              <a:ext cx="63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35920" y="5019840"/>
              <a:ext cx="63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35920" y="4497480"/>
              <a:ext cx="63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62480" y="6375240"/>
              <a:ext cx="9543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UI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38440" y="4167360"/>
              <a:ext cx="509760" cy="2462040"/>
            </a:xfrm>
            <a:custGeom>
              <a:avLst/>
              <a:gdLst>
                <a:gd name="textAreaLeft" fmla="*/ 325800 w 509760"/>
                <a:gd name="textAreaRight" fmla="*/ 510120 w 509760"/>
                <a:gd name="textAreaTop" fmla="*/ 64080 h 2462040"/>
                <a:gd name="textAreaBottom" fmla="*/ 2397960 h 24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52280" y="2209680"/>
            <a:ext cx="3124440" cy="4419720"/>
            <a:chOff x="152280" y="2209680"/>
            <a:chExt cx="3124440" cy="4419720"/>
          </a:xfrm>
        </p:grpSpPr>
        <p:sp>
          <p:nvSpPr>
            <p:cNvPr id="76" name=""/>
            <p:cNvSpPr/>
            <p:nvPr/>
          </p:nvSpPr>
          <p:spPr>
            <a:xfrm>
              <a:off x="152280" y="2209680"/>
              <a:ext cx="3124440" cy="4419720"/>
            </a:xfrm>
            <a:prstGeom prst="rect">
              <a:avLst/>
            </a:prstGeom>
            <a:noFill/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8800" y="3429000"/>
              <a:ext cx="765360" cy="53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Bo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09680" y="3429000"/>
              <a:ext cx="890640" cy="609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Intera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(QTI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09680" y="4876920"/>
              <a:ext cx="890640" cy="533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Sm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Graph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09680" y="5562720"/>
              <a:ext cx="890640" cy="533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S1000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09680" y="4191120"/>
              <a:ext cx="890640" cy="533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HTM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Blo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8800" y="4165560"/>
              <a:ext cx="765360" cy="53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Im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8800" y="4902120"/>
              <a:ext cx="765360" cy="53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8800" y="5638680"/>
              <a:ext cx="765360" cy="53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Plug-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680" y="2971800"/>
              <a:ext cx="1401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336666"/>
                  </a:solidFill>
                  <a:uFillTx/>
                  <a:latin typeface="Arial"/>
                  <a:ea typeface="MS Mincho"/>
                </a:rPr>
                <a:t>ODF Primi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25720" y="2971800"/>
              <a:ext cx="1174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336666"/>
                  </a:solidFill>
                  <a:uFillTx/>
                  <a:latin typeface="Arial"/>
                  <a:ea typeface="MS Mincho"/>
                </a:rPr>
                <a:t>Extend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3520" y="2362320"/>
              <a:ext cx="2205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Location may contain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52440" y="4648320"/>
              <a:ext cx="83844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SIM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724280" y="2455920"/>
            <a:ext cx="3733920" cy="17366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!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ASIS OpenDocument v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ASIS Standard, 1 May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x-NG Sc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2002-2005 OASIS 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1999-2005 Sun Microsystem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16040" y="2971800"/>
            <a:ext cx="46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6:46:03Z</dcterms:created>
  <dc:creator>Robby Robson</dc:creator>
  <dc:description/>
  <dc:language>en-US</dc:language>
  <cp:lastModifiedBy>Robby Robson</cp:lastModifiedBy>
  <dcterms:modified xsi:type="dcterms:W3CDTF">2006-02-01T17:12:15Z</dcterms:modified>
  <cp:revision>2</cp:revision>
  <dc:subject/>
  <dc:title>SIM – SCORM Interoperability</dc:title>
</cp:coreProperties>
</file>