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B73-DF11-413A-9C03-4D3EF483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5D2-B50C-49DA-8BE5-1667AF4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B03-1C99-4C9D-AC43-19E4798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454-480E-4556-9838-B7FAE11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D29-0B26-44A4-879D-CF879E4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01A-7D2D-42BE-ACE7-0B626D2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286-93D9-4147-B213-099C943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B56-D9E2-4CEB-8ADB-AECA1DF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C9D-22BF-4B42-8FC0-F457512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0B1-5B3D-454D-A285-03DD668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F44-2E46-49BD-8AD1-AC6CA18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970-E0D4-44D9-A1F4-FA68FEE6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90600" cy="54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0b3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spcBef>
                <a:spcPts val="751"/>
              </a:spcBef>
              <a:spcAft>
                <a:spcPts val="751"/>
              </a:spcAft>
              <a:buClr>
                <a:srgbClr val="305ba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1699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5080" indent="-1681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65120" indent="-1159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65120" indent="-11592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65120" indent="-11592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5530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b89bc"/>
                </a:solidFill>
                <a:latin typeface="Arial"/>
              </a:rPr>
              <a:t>03.02.2006                     </a:t>
            </a:r>
            <a:fld id="{F80E7A52-F365-41B4-8DCD-D7D971E88E7B}" type="slidenum">
              <a:rPr b="0" lang="en-US" sz="1000" spc="-1" strike="noStrike">
                <a:solidFill>
                  <a:srgbClr val="6b89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82760" y="6421320"/>
            <a:ext cx="8226360" cy="74880"/>
          </a:xfrm>
          <a:prstGeom prst="rect">
            <a:avLst/>
          </a:prstGeom>
          <a:gradFill rotWithShape="0">
            <a:gsLst>
              <a:gs pos="0">
                <a:srgbClr val="0b3d91"/>
              </a:gs>
              <a:gs pos="5000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62600" y="65530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b89bc"/>
                </a:solidFill>
                <a:latin typeface="Verdana"/>
              </a:rPr>
              <a:t>©</a:t>
            </a:r>
            <a:r>
              <a:rPr b="1" lang="en-US" sz="1400" spc="-1" strike="noStrike">
                <a:solidFill>
                  <a:srgbClr val="6b89bc"/>
                </a:solidFill>
                <a:latin typeface="Arial"/>
              </a:rPr>
              <a:t> 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99036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066680"/>
            <a:ext cx="2209680" cy="2742840"/>
            <a:chOff x="0" y="1066680"/>
            <a:chExt cx="2209680" cy="2742840"/>
          </a:xfrm>
        </p:grpSpPr>
        <p:sp>
          <p:nvSpPr>
            <p:cNvPr id="53" name=""/>
            <p:cNvSpPr/>
            <p:nvPr/>
          </p:nvSpPr>
          <p:spPr>
            <a:xfrm>
              <a:off x="441720" y="3252600"/>
              <a:ext cx="443880" cy="55692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2640" y="1608480"/>
              <a:ext cx="442800" cy="55836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8240" y="1066680"/>
              <a:ext cx="451440" cy="55152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9840" y="3252600"/>
              <a:ext cx="450000" cy="556920"/>
            </a:xfrm>
            <a:prstGeom prst="rect">
              <a:avLst/>
            </a:prstGeom>
            <a:solidFill>
              <a:srgbClr val="0b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58240" y="1608480"/>
              <a:ext cx="451440" cy="55836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9840" y="2158920"/>
              <a:ext cx="450000" cy="55008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158920"/>
              <a:ext cx="448920" cy="550080"/>
            </a:xfrm>
            <a:prstGeom prst="rect">
              <a:avLst/>
            </a:prstGeom>
            <a:solidFill>
              <a:srgbClr val="0b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2640" y="2158920"/>
              <a:ext cx="442800" cy="55008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720" y="2701080"/>
              <a:ext cx="443880" cy="55980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9840" y="2701080"/>
              <a:ext cx="450000" cy="55980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74B-6BC4-49F1-B592-B08A028D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06800" y="1562040"/>
            <a:ext cx="55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50920" y="1785600"/>
            <a:ext cx="55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4960" y="6497640"/>
            <a:ext cx="143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b89bc"/>
                </a:solidFill>
                <a:latin typeface="Arial"/>
              </a:rPr>
              <a:t>  </a:t>
            </a:r>
            <a:fld id="{E0016B18-AF22-45F6-8FD7-54FD8E4652DB}" type="slidenum">
              <a:rPr b="0" lang="en-US" sz="1000" spc="-1" strike="noStrike">
                <a:solidFill>
                  <a:srgbClr val="6b89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45360"/>
            <a:ext cx="8226360" cy="74520"/>
          </a:xfrm>
          <a:prstGeom prst="rect">
            <a:avLst/>
          </a:prstGeom>
          <a:gradFill rotWithShape="0">
            <a:gsLst>
              <a:gs pos="0">
                <a:srgbClr val="0b3d91"/>
              </a:gs>
              <a:gs pos="5000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4800" y="6477120"/>
            <a:ext cx="24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89bc"/>
                </a:solidFill>
                <a:latin typeface="Arial"/>
              </a:rPr>
              <a:t>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65560" y="6248520"/>
            <a:ext cx="990720" cy="317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algn="ctr">
              <a:spcBef>
                <a:spcPts val="400"/>
              </a:spcBef>
              <a:buClr>
                <a:srgbClr val="0b3d91"/>
              </a:buClr>
              <a:buSzPct val="7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6960" algn="ctr">
              <a:spcBef>
                <a:spcPts val="349"/>
              </a:spcBef>
              <a:buClr>
                <a:srgbClr val="0b3d91"/>
              </a:buClr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49200" algn="ctr">
              <a:spcBef>
                <a:spcPts val="300"/>
              </a:spcBef>
              <a:buClr>
                <a:srgbClr val="0b3d9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492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492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haynes@i-a-i.com" TargetMode="External"/><Relationship Id="rId2" Type="http://schemas.openxmlformats.org/officeDocument/2006/relationships/hyperlink" Target="mailto:obukai@i-a-i.com" TargetMode="External"/><Relationship Id="rId3" Type="http://schemas.openxmlformats.org/officeDocument/2006/relationships/hyperlink" Target="http://www.sisostds.org/" TargetMode="External"/><Relationship Id="rId4" Type="http://schemas.openxmlformats.org/officeDocument/2006/relationships/hyperlink" Target="http://ieeeltsc.org/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sition paper regarding interfacing SCORM and simulation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. Jacqueline Haynes </a:t>
            </a:r>
            <a:r>
              <a:rPr b="0" lang="en-US" sz="1400" spc="-1" strike="noStrike" u="sng">
                <a:solidFill>
                  <a:srgbClr val="0b3d91"/>
                </a:solidFill>
                <a:uFillTx/>
                <a:latin typeface="Arial"/>
                <a:hlinkClick r:id="rId1"/>
              </a:rPr>
              <a:t>jhaynes@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. Ohad Bukai </a:t>
            </a:r>
            <a:r>
              <a:rPr b="0" lang="en-US" sz="1400" spc="-1" strike="noStrike" u="sng">
                <a:solidFill>
                  <a:srgbClr val="0b3d91"/>
                </a:solidFill>
                <a:uFillTx/>
                <a:latin typeface="Arial"/>
                <a:hlinkClick r:id="rId2"/>
              </a:rPr>
              <a:t>obukai@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400 Calhoun Drive, Suit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ville, MD 20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</a:rPr>
              <a:t>http://www.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imulation Interoperability Standards Organiz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Activity Committee (</a:t>
            </a:r>
            <a:r>
              <a:rPr b="0" lang="en-US" sz="1100" spc="-1" strike="noStrike" u="sng">
                <a:solidFill>
                  <a:srgbClr val="0b3d91"/>
                </a:solidFill>
                <a:uFillTx/>
                <a:latin typeface="Arial"/>
                <a:ea typeface="ＭＳ Ｐゴシック"/>
                <a:hlinkClick r:id="rId3"/>
              </a:rPr>
              <a:t>SISO SA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arning Technology Standards Committee (</a:t>
            </a:r>
            <a:r>
              <a:rPr b="0" lang="en-US" sz="1100" spc="-1" strike="noStrike" u="sng">
                <a:solidFill>
                  <a:srgbClr val="0b3d91"/>
                </a:solidFill>
                <a:uFillTx/>
                <a:latin typeface="Arial"/>
                <a:ea typeface="ＭＳ Ｐゴシック"/>
                <a:hlinkClick r:id="rId4"/>
              </a:rPr>
              <a:t>LTS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2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638680"/>
            <a:ext cx="845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nformation contained herein, except as identified below, is proprietary to Intelligent Automation, Inc. and may not be disclosed to third parties without the written permission of Intelligent Autom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Questions to be addressed: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required for a simulation experience ,delivered over SCORM platform, to provide a pedagogically effective training experie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echnical solution will provide a flexible portable platform to deliver that experi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we manage or formalize the involvement of the “human in the loop” without compromising the similarity / repeatability of simulation exper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SCORM evolve / be used to enable team collaboration through simulatio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he proposed simulation experience</a:t>
            </a: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’s are the building blocks of simulation experience. Every new SCO represent a new competency, knowledge, or complexity, instructionally distinct stage in the inter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over a simulation progress should be done in two lev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events and entities should be managed by the simulation without interference or control from SCORM /LMS. Instructionally meaningful stages should be encapsulated in a SCO and scripted according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simulation experience should be persistent across SCOS. A solution should overcome page flipping and any requirement to unload and reload the sim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echnical solution 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server simul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stand alone client side execu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in clients and downloaded client 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r client plug-in to implement a common link between browser and simulation client. Plug-in should supp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 of persistency across S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of loading, starting stopping of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way to increment simulation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based API to control the plug-in through standard tags in the HTML pag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1371600"/>
          <a:ext cx="4038480" cy="4933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9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4758120" y="1954080"/>
            <a:ext cx="3647880" cy="2001240"/>
            <a:chOff x="4758120" y="1954080"/>
            <a:chExt cx="3647880" cy="2001240"/>
          </a:xfrm>
        </p:grpSpPr>
        <p:sp>
          <p:nvSpPr>
            <p:cNvPr id="120" name=""/>
            <p:cNvSpPr/>
            <p:nvPr/>
          </p:nvSpPr>
          <p:spPr>
            <a:xfrm>
              <a:off x="4758120" y="1954080"/>
              <a:ext cx="1647360" cy="200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 ma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0920" y="2307240"/>
              <a:ext cx="941400" cy="47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i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9000" y="3248640"/>
              <a:ext cx="941400" cy="35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94080" y="1954080"/>
              <a:ext cx="1411920" cy="200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 ma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47240" y="3013920"/>
              <a:ext cx="9414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g -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7240" y="2307240"/>
              <a:ext cx="94140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7240" y="3484800"/>
              <a:ext cx="941400" cy="35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818120" y="3367080"/>
              <a:ext cx="36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818120" y="2777760"/>
              <a:ext cx="36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1" idx="3"/>
              <a:endCxn id="125" idx="1"/>
            </p:cNvCxnSpPr>
            <p:nvPr/>
          </p:nvCxnSpPr>
          <p:spPr>
            <a:xfrm flipV="1">
              <a:off x="6052680" y="2541600"/>
              <a:ext cx="1295280" cy="108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"/>
            <p:cNvCxnSpPr>
              <a:stCxn id="122" idx="3"/>
              <a:endCxn id="126" idx="1"/>
            </p:cNvCxnSpPr>
            <p:nvPr/>
          </p:nvCxnSpPr>
          <p:spPr>
            <a:xfrm>
              <a:off x="6170040" y="3424680"/>
              <a:ext cx="1177560" cy="237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Conflicting controllers issues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external entities as human in the loop coach and other “players” in a distributed simulation can affect the simulation experience and compete with the scripted static flow stored in the SCORM meta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have adverse affect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“intruders” can be unsynchronized with the instructional goals designed in th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flicts with the repeatability of the same experience across different students, and may interfere with uniform reporting and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 propose a formal “Task grid” as an “agreement” regarding responsibility allocation between static script (SCORM), and dynamic intervention (distributed simulation / human in the loop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eam environment issues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introduction of simulation, SCORM  has to address learning interactions that involves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M will have to provide infrastructure to manage teams, team activities, and scheduling of inter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team oriented grading concepts to SC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and scheduling – unlike stand alone SCORM interaction, for teams, learning on demand requires a facility to gather participants at a dedicated ti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Integrating simulation with instruction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75"/>
              </a:spcBef>
              <a:spcAft>
                <a:spcPts val="675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CORM and simulation should allow synchronization of the simulation with other type of instruction to enrich the 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0:50:46Z</dcterms:created>
  <dc:creator>IAI</dc:creator>
  <dc:description/>
  <dc:language>en-US</dc:language>
  <cp:lastModifiedBy>Administrator</cp:lastModifiedBy>
  <dcterms:modified xsi:type="dcterms:W3CDTF">2006-02-01T18:25:12Z</dcterms:modified>
  <cp:revision>4</cp:revision>
  <dc:subject/>
  <dc:title>Position paper regarding interfacing scorm and simulation </dc:title>
</cp:coreProperties>
</file>