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A3AB875-63BC-4E0B-A868-6A18BBED8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colors:  Black is in place now,  red is not yet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three computing environ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Management System Server (Network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Server (Net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processor and 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parallel nature of the Activity Tree (as a database of initial conditions for the learning activities) and the simulation Initia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C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ention/Explanation SCO (triggered by event, halts simulation, informs student, resumes simulation, comple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R SCO (Post-processing of datalog used to provide initial parameters for the AAR 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itial Conditions across the Simulation Network.  Static for the life of the simula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s “fair play” and realism (not always instructionally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the low-level communication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al Requirement:  Learning System controls the user interface to the simulation.  NOT NEGOT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608F-2474-462C-9E64-028590510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51600"/>
            <a:ext cx="77724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9B35-2F70-43A1-971A-39FC73C59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5160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5160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106D-4DFE-49C1-B011-3C11409F2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5160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5160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5160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31A8-3AD4-4323-8B18-C148AC224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C937-D7A5-44CE-AB30-612034C271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DCF7-E89E-4984-84EC-F503F9EB6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744A-D492-467A-AAAA-B09C67A1E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23D1-AAA6-4453-AD5A-B2BB2E0C8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27240" y="37584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94A5-91C1-49B1-A43B-F7E64CC28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5160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B902-795C-45B6-91A9-E7D955FD3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5160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2881-F75A-4F06-BBCB-D125CB300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51600"/>
            <a:ext cx="77724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5956-7F27-4947-B1FC-CC70BA328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379920" y="6478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Page </a:t>
            </a:r>
            <a:fld id="{4D1F6F45-085E-401E-AEBC-64C8DD2E05C4}" type="slidenum">
              <a:rPr b="0" lang="en-US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10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-289080">
              <a:spcBef>
                <a:spcPts val="1001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2" marL="1090440" indent="-176040">
              <a:spcBef>
                <a:spcPts val="1001"/>
              </a:spcBef>
              <a:buClr>
                <a:srgbClr val="95aed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3" marL="1541520" indent="-169920">
              <a:spcBef>
                <a:spcPts val="1001"/>
              </a:spcBef>
              <a:buClr>
                <a:srgbClr val="95ae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57960"/>
            <a:ext cx="9144000" cy="0"/>
          </a:xfrm>
          <a:prstGeom prst="line">
            <a:avLst/>
          </a:prstGeom>
          <a:ln w="9360">
            <a:solidFill>
              <a:srgbClr val="005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28600" y="6485040"/>
            <a:ext cx="590400" cy="24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gaf@rti.org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Research Triangle Institute </a:t>
            </a:r>
            <a:br>
              <a:rPr sz="3400"/>
            </a:b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(RTI International)</a:t>
            </a:r>
            <a:br>
              <a:rPr sz="3400"/>
            </a:b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LMS- Simulation Interface Position</a:t>
            </a:r>
            <a:endParaRPr b="0" lang="en-US" sz="34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Geoffrey A. Frank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Technology Assisted Learning Center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af@rti.org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0483-CF4C-41D0-B1E6-63D49F3B5454}" type="slidenum">
              <a:t>1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7240" y="-3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User Requirements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86960" y="1209240"/>
            <a:ext cx="7696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Stand-Alone simulations for asynchronous training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Multiple levels of scaffolding (student assistance)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Potential for repeated, deliberate practice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Automated performance assessment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Concurrent assessment of multiple skills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Book-marking 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-289080">
              <a:spcBef>
                <a:spcPts val="11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6f"/>
                </a:solidFill>
                <a:latin typeface="Arial"/>
              </a:rPr>
              <a:t>Persistent storage of partial results</a:t>
            </a:r>
            <a:endParaRPr b="0" lang="en-US" sz="24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A732-2726-4E6C-8903-BAA077FF7401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Example Solutions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5040" y="1182240"/>
            <a:ext cx="431784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9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6f"/>
                </a:solidFill>
                <a:latin typeface="Arial"/>
              </a:rPr>
              <a:t>Web-downloadable  interactive 3D simulations for individual training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6f"/>
                </a:solidFill>
                <a:latin typeface="Arial"/>
              </a:rPr>
              <a:t>The Familiarize, Acquire, Practice, Validate approach to scaffolding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6f"/>
                </a:solidFill>
                <a:latin typeface="Arial"/>
              </a:rPr>
              <a:t>After Action Reviews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16720" y="515880"/>
            <a:ext cx="3305160" cy="2867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67560" y="3568680"/>
            <a:ext cx="2881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0360" y="3046320"/>
            <a:ext cx="4284720" cy="32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525B-2D7F-4D48-A190-2D71F6D7912C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6400" y="161640"/>
            <a:ext cx="471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The FAPV Model </a:t>
            </a:r>
            <a:br>
              <a:rPr sz="3800"/>
            </a:b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for Learning by Doing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494000"/>
            <a:ext cx="597384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6f"/>
                </a:solidFill>
                <a:latin typeface="Arial"/>
              </a:rPr>
              <a:t>Familiarize: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ing pre-requisite knowledge for performing a task (equipment, controls, indicators, terminology)</a:t>
            </a:r>
            <a:endParaRPr b="0" lang="en-US" sz="1700" spc="-1" strike="noStrike">
              <a:solidFill>
                <a:srgbClr val="00396f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6f"/>
                </a:solidFill>
                <a:latin typeface="Arial"/>
              </a:rPr>
              <a:t>Acquire Skill: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 a task by being shown how to do it</a:t>
            </a:r>
            <a:endParaRPr b="0" lang="en-US" sz="1700" spc="-1" strike="noStrike">
              <a:solidFill>
                <a:srgbClr val="00396f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6f"/>
                </a:solidFill>
                <a:latin typeface="Arial"/>
              </a:rPr>
              <a:t>Practice Skill: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nalize the techniques and sequence of a task by doing it with help available</a:t>
            </a:r>
            <a:endParaRPr b="0" lang="en-US" sz="1700" spc="-1" strike="noStrike">
              <a:solidFill>
                <a:srgbClr val="00396f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6f"/>
                </a:solidFill>
                <a:latin typeface="Arial"/>
              </a:rPr>
              <a:t>Validate Skill: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 tested on ability to perform the task without help</a:t>
            </a:r>
            <a:endParaRPr b="0" lang="en-US" sz="17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62840" y="174600"/>
            <a:ext cx="2587320" cy="1887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93960" y="4433760"/>
            <a:ext cx="2882880" cy="225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124680" y="2152800"/>
            <a:ext cx="2695320" cy="1965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921280" y="4349880"/>
            <a:ext cx="277488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CDF5-5E0A-4BFD-9E53-99B4D62635C7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99720" y="202680"/>
            <a:ext cx="69152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Automated After Action Reviews</a:t>
            </a:r>
            <a:br>
              <a:rPr sz="3400"/>
            </a:b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for Individual Training</a:t>
            </a:r>
            <a:br>
              <a:rPr sz="3400"/>
            </a:br>
            <a:r>
              <a:rPr b="0" lang="en-US" sz="2800" spc="-1" strike="noStrike">
                <a:solidFill>
                  <a:srgbClr val="005295"/>
                </a:solidFill>
                <a:latin typeface="Times New Roman"/>
              </a:rPr>
              <a:t>(Performance Measure Summary)</a:t>
            </a:r>
            <a:endParaRPr b="0" lang="en-US" sz="2800" spc="-1" strike="noStrike">
              <a:solidFill>
                <a:srgbClr val="005295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0" b="5114"/>
          <a:stretch/>
        </p:blipFill>
        <p:spPr>
          <a:xfrm>
            <a:off x="241200" y="2152800"/>
            <a:ext cx="5538960" cy="3732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823000" y="2836800"/>
            <a:ext cx="314316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36880" indent="-236880">
              <a:lnSpc>
                <a:spcPct val="100000"/>
              </a:lnSpc>
              <a:spcBef>
                <a:spcPts val="10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6f"/>
                </a:solidFill>
                <a:latin typeface="Arial"/>
              </a:rPr>
              <a:t>What happe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and Performance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6880" indent="-236880">
              <a:lnSpc>
                <a:spcPct val="100000"/>
              </a:lnSpc>
              <a:spcBef>
                <a:spcPts val="10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6f"/>
                </a:solidFill>
                <a:latin typeface="Arial"/>
              </a:rPr>
              <a:t>Why events happe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M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riteria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987720" y="3417840"/>
            <a:ext cx="2293920" cy="26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063680" y="3470400"/>
            <a:ext cx="2243160" cy="63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635360" y="4215960"/>
            <a:ext cx="1681200" cy="825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096800" y="4317840"/>
            <a:ext cx="2232360" cy="787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568320" y="4470480"/>
            <a:ext cx="2747880" cy="673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149640" y="4571640"/>
            <a:ext cx="319248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606480" y="4826160"/>
            <a:ext cx="2646360" cy="901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089240" y="5727600"/>
            <a:ext cx="2151360" cy="12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149640" y="4965840"/>
            <a:ext cx="3090960" cy="761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772080" y="5283360"/>
            <a:ext cx="2481120" cy="444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809520" y="5524560"/>
            <a:ext cx="2443320" cy="203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CA40-D98E-4756-82E7-43BB25162D3D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3760" y="177840"/>
            <a:ext cx="6915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Automated After Action Reviews</a:t>
            </a:r>
            <a:br>
              <a:rPr sz="3400"/>
            </a:b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for Individual Training</a:t>
            </a:r>
            <a:br>
              <a:rPr sz="3400"/>
            </a:br>
            <a:r>
              <a:rPr b="0" lang="en-US" sz="2800" spc="-1" strike="noStrike">
                <a:solidFill>
                  <a:srgbClr val="005295"/>
                </a:solidFill>
                <a:latin typeface="Times New Roman"/>
              </a:rPr>
              <a:t>(Student Log)</a:t>
            </a:r>
            <a:endParaRPr b="0" lang="en-US" sz="2800" spc="-1" strike="noStrike">
              <a:solidFill>
                <a:srgbClr val="005295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6442" t="9371" r="0" b="4326"/>
          <a:stretch/>
        </p:blipFill>
        <p:spPr>
          <a:xfrm>
            <a:off x="0" y="1854360"/>
            <a:ext cx="6473880" cy="4478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73680" y="2506680"/>
            <a:ext cx="24703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6f"/>
                </a:solidFill>
                <a:latin typeface="Arial"/>
              </a:rPr>
              <a:t>How events happe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890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890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890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rformance measure consequ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890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292280" y="2641320"/>
            <a:ext cx="2870280" cy="7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753160" y="3581280"/>
            <a:ext cx="14270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083280" y="4114800"/>
            <a:ext cx="1046160" cy="203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210360" y="4191120"/>
            <a:ext cx="95256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1840" y="4127400"/>
            <a:ext cx="1143000" cy="176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EE17-3E53-4F14-BCA0-84900BB42C80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27240" y="-3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Open Issues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6960" y="1209600"/>
            <a:ext cx="76964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Concurrent assessment of multiple skills within SCORM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Book-marking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Persistence of student data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8EBD-4F2A-4975-8A6A-0915CF941402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73520" y="2801880"/>
            <a:ext cx="4717800" cy="14940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421160"/>
            <a:ext cx="8331120" cy="18795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i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080" y="162000"/>
            <a:ext cx="7499160" cy="229212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Learning Management System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3080" y="5229360"/>
            <a:ext cx="3430800" cy="83484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0480" y="5075280"/>
            <a:ext cx="1836720" cy="12193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26200" y="5064120"/>
            <a:ext cx="1371600" cy="121932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Pers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atalo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6208200" y="3919320"/>
            <a:ext cx="1800" cy="129852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05120" y="5626080"/>
            <a:ext cx="52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70720" y="5691240"/>
            <a:ext cx="566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76720" y="3732120"/>
            <a:ext cx="1249200" cy="5558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125480" y="3441600"/>
            <a:ext cx="701640" cy="16290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rot="16200000">
            <a:off x="5119200" y="3172680"/>
            <a:ext cx="287640" cy="8730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rot="16200000">
            <a:off x="3267720" y="4350600"/>
            <a:ext cx="1182600" cy="58392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8440" y="249120"/>
            <a:ext cx="2468520" cy="221616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27880" y="4443480"/>
            <a:ext cx="112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p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57240" y="871560"/>
            <a:ext cx="1225440" cy="588960"/>
            <a:chOff x="957240" y="871560"/>
            <a:chExt cx="1225440" cy="588960"/>
          </a:xfrm>
        </p:grpSpPr>
        <p:sp>
          <p:nvSpPr>
            <p:cNvPr id="105" name=""/>
            <p:cNvSpPr/>
            <p:nvPr/>
          </p:nvSpPr>
          <p:spPr>
            <a:xfrm>
              <a:off x="1015920" y="876240"/>
              <a:ext cx="1092240" cy="584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15920" y="116820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876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57240" y="871560"/>
              <a:ext cx="12254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503360" y="1671480"/>
            <a:ext cx="1225440" cy="588960"/>
            <a:chOff x="1503360" y="1671480"/>
            <a:chExt cx="1225440" cy="588960"/>
          </a:xfrm>
        </p:grpSpPr>
        <p:sp>
          <p:nvSpPr>
            <p:cNvPr id="110" name=""/>
            <p:cNvSpPr/>
            <p:nvPr/>
          </p:nvSpPr>
          <p:spPr>
            <a:xfrm>
              <a:off x="1562040" y="1676160"/>
              <a:ext cx="1092240" cy="584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62040" y="196812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70000" y="16761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03360" y="1671480"/>
              <a:ext cx="12254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34800" y="1684440"/>
            <a:ext cx="1225440" cy="588960"/>
            <a:chOff x="334800" y="1684440"/>
            <a:chExt cx="1225440" cy="588960"/>
          </a:xfrm>
        </p:grpSpPr>
        <p:sp>
          <p:nvSpPr>
            <p:cNvPr id="115" name=""/>
            <p:cNvSpPr/>
            <p:nvPr/>
          </p:nvSpPr>
          <p:spPr>
            <a:xfrm>
              <a:off x="393480" y="1689120"/>
              <a:ext cx="1092240" cy="584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480" y="198108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1440" y="1689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800" y="1684440"/>
              <a:ext cx="12254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957240" y="1557360"/>
            <a:ext cx="1185840" cy="119160"/>
          </a:xfrm>
          <a:custGeom>
            <a:avLst/>
            <a:gdLst/>
            <a:ahLst/>
            <a:rect l="l" t="t" r="r" b="b"/>
            <a:pathLst>
              <a:path w="747" h="75">
                <a:moveTo>
                  <a:pt x="1" y="75"/>
                </a:moveTo>
                <a:lnTo>
                  <a:pt x="0" y="0"/>
                </a:lnTo>
                <a:lnTo>
                  <a:pt x="747" y="0"/>
                </a:lnTo>
                <a:lnTo>
                  <a:pt x="747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57360" y="1461960"/>
            <a:ext cx="0" cy="10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89440" y="3209760"/>
            <a:ext cx="1422720" cy="69876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1538280"/>
            <a:ext cx="2462040" cy="81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ing Navi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946680" y="1066680"/>
            <a:ext cx="4240080" cy="404496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214680" y="2341080"/>
            <a:ext cx="12600" cy="8715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6480" y="380880"/>
            <a:ext cx="19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841320"/>
            <a:ext cx="1128600" cy="750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000240"/>
            <a:ext cx="15303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52560" y="2106720"/>
            <a:ext cx="1386000" cy="79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752560" y="1860120"/>
            <a:ext cx="13860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13200" y="2451240"/>
            <a:ext cx="14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 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rot="16200000">
            <a:off x="2378520" y="3165480"/>
            <a:ext cx="1738440" cy="205596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ff33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4600" y="1398600"/>
            <a:ext cx="2970000" cy="18288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091960" y="1200240"/>
            <a:ext cx="7383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rot="10800000">
            <a:off x="4314960" y="2317680"/>
            <a:ext cx="1349280" cy="99864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84760" y="4275000"/>
            <a:ext cx="6480" cy="9669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432288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558120" y="3919680"/>
            <a:ext cx="15840" cy="13032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284080" y="3918960"/>
            <a:ext cx="685800" cy="21564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7DE0-F383-44D8-A353-F2D47D2B6627}" type="slidenum">
              <a:t>8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4:35:56Z</dcterms:created>
  <dc:creator>Geoffrey Frank</dc:creator>
  <dc:description/>
  <dc:language>en-US</dc:language>
  <cp:lastModifiedBy>Geoffrey Frank</cp:lastModifiedBy>
  <cp:lastPrinted>2001-07-09T20:15:28Z</cp:lastPrinted>
  <dcterms:modified xsi:type="dcterms:W3CDTF">2006-02-02T23:14:52Z</dcterms:modified>
  <cp:revision>732</cp:revision>
  <dc:subject/>
  <dc:title>RCD Example </dc:title>
</cp:coreProperties>
</file>